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076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992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124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992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124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4076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4076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3992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5124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3992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5124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076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990720"/>
            <a:ext cx="8686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69640" y="637704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.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ts val="2999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n sistema OO le funzionalità del sistema sono realizzate dagli oggetti c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avorano assi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ts val="2999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lavorare assieme gli oggetti devono comunicare tra di loro, scambiandosi messa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ts val="2999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UML indica questo lavorare assi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empi dal sistema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Briscola on line”</a:t>
            </a:r>
            <a:br>
              <a:rPr sz="28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un sistema WEB based per permettere di organizzare dei tornei di briscol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26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giocatore si iscrive ad un tor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26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coppie si accordano per giocare una partita ad una certa ora in un certo gi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26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gestore di un torneo comunica ai rappresentanti di due coppie che devono scontrarsi in un certo tor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aboration diagra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quelli a specification level, 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gget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vece di class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istanziazioni di associazioni] invece di association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imu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istanziazioni di messaggi] invece di messa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914400" y="3505320"/>
            <a:ext cx="6981840" cy="828720"/>
            <a:chOff x="914400" y="3505320"/>
            <a:chExt cx="6981840" cy="828720"/>
          </a:xfrm>
        </p:grpSpPr>
        <p:grpSp>
          <p:nvGrpSpPr>
            <p:cNvPr id="252" name=""/>
            <p:cNvGrpSpPr/>
            <p:nvPr/>
          </p:nvGrpSpPr>
          <p:grpSpPr>
            <a:xfrm>
              <a:off x="914400" y="3876840"/>
              <a:ext cx="1523880" cy="457200"/>
              <a:chOff x="914400" y="3876840"/>
              <a:chExt cx="1523880" cy="457200"/>
            </a:xfrm>
          </p:grpSpPr>
          <p:sp>
            <p:nvSpPr>
              <p:cNvPr id="253" name=""/>
              <p:cNvSpPr/>
              <p:nvPr/>
            </p:nvSpPr>
            <p:spPr>
              <a:xfrm>
                <a:off x="914400" y="3876840"/>
                <a:ext cx="15238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059480" y="3949920"/>
                <a:ext cx="123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:Giocato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686200" y="3876840"/>
              <a:ext cx="2210040" cy="457200"/>
              <a:chOff x="5686200" y="3876840"/>
              <a:chExt cx="2210040" cy="457200"/>
            </a:xfrm>
          </p:grpSpPr>
          <p:sp>
            <p:nvSpPr>
              <p:cNvPr id="256" name=""/>
              <p:cNvSpPr/>
              <p:nvPr/>
            </p:nvSpPr>
            <p:spPr>
              <a:xfrm>
                <a:off x="5686200" y="3876840"/>
                <a:ext cx="221004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93400" y="3949920"/>
                <a:ext cx="21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ampionato:Torne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2438280" y="411480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160" y="396252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98600" y="3505320"/>
              <a:ext cx="16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imul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793120" y="4266720"/>
            <a:ext cx="2412000" cy="679320"/>
            <a:chOff x="5793120" y="4266720"/>
            <a:chExt cx="2412000" cy="679320"/>
          </a:xfrm>
        </p:grpSpPr>
        <p:sp>
          <p:nvSpPr>
            <p:cNvPr id="262" name=""/>
            <p:cNvSpPr/>
            <p:nvPr/>
          </p:nvSpPr>
          <p:spPr>
            <a:xfrm flipV="1">
              <a:off x="6248520" y="4266720"/>
              <a:ext cx="0" cy="676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93120" y="4486320"/>
              <a:ext cx="2412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me dell’ogget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19080" y="4267080"/>
            <a:ext cx="1249200" cy="678960"/>
            <a:chOff x="919080" y="4267080"/>
            <a:chExt cx="1249200" cy="678960"/>
          </a:xfrm>
        </p:grpSpPr>
        <p:sp>
          <p:nvSpPr>
            <p:cNvPr id="265" name=""/>
            <p:cNvSpPr/>
            <p:nvPr/>
          </p:nvSpPr>
          <p:spPr>
            <a:xfrm>
              <a:off x="1676520" y="4267080"/>
              <a:ext cx="0" cy="44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19080" y="4486320"/>
              <a:ext cx="12492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oni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28600" y="5410080"/>
            <a:ext cx="8686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getti possono essere marcat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new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 quelli creati 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destroyed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lli terminati nella collabor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aboration diagra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pec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 una collaborazio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gen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ra generici ruoli per gli oggetti, può contenere alternative, cicli da eseguire un numero di volte prefiss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e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un generico giocatore si iscrive ad un generico tor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due generici giocatori si accord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2209680" y="2209680"/>
            <a:ext cx="3962160" cy="764640"/>
            <a:chOff x="2209680" y="2209680"/>
            <a:chExt cx="3962160" cy="764640"/>
          </a:xfrm>
        </p:grpSpPr>
        <p:sp>
          <p:nvSpPr>
            <p:cNvPr id="82" name=""/>
            <p:cNvSpPr/>
            <p:nvPr/>
          </p:nvSpPr>
          <p:spPr>
            <a:xfrm flipH="1">
              <a:off x="3962160" y="2209680"/>
              <a:ext cx="2209680" cy="53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09680" y="2209680"/>
              <a:ext cx="1295280" cy="53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05080" y="2514600"/>
              <a:ext cx="9108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181120" y="2209320"/>
            <a:ext cx="3099960" cy="688680"/>
            <a:chOff x="5181120" y="2209320"/>
            <a:chExt cx="3099960" cy="688680"/>
          </a:xfrm>
        </p:grpSpPr>
        <p:sp>
          <p:nvSpPr>
            <p:cNvPr id="86" name=""/>
            <p:cNvSpPr/>
            <p:nvPr/>
          </p:nvSpPr>
          <p:spPr>
            <a:xfrm flipH="1" flipV="1">
              <a:off x="5181120" y="2209320"/>
              <a:ext cx="1523880" cy="685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51760" y="2438280"/>
              <a:ext cx="2029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me del ruo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5560" y="2286000"/>
            <a:ext cx="1518840" cy="688320"/>
            <a:chOff x="385560" y="2286000"/>
            <a:chExt cx="1518840" cy="688320"/>
          </a:xfrm>
        </p:grpSpPr>
        <p:sp>
          <p:nvSpPr>
            <p:cNvPr id="89" name=""/>
            <p:cNvSpPr/>
            <p:nvPr/>
          </p:nvSpPr>
          <p:spPr>
            <a:xfrm flipH="1">
              <a:off x="1142280" y="2286000"/>
              <a:ext cx="76212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5560" y="2514600"/>
              <a:ext cx="12492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oni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gredient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OLI =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partecipanti (generici) alla collaborazio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19320" y="1828800"/>
            <a:ext cx="5401440" cy="457200"/>
            <a:chOff x="1219320" y="1828800"/>
            <a:chExt cx="5401440" cy="457200"/>
          </a:xfrm>
        </p:grpSpPr>
        <p:grpSp>
          <p:nvGrpSpPr>
            <p:cNvPr id="94" name=""/>
            <p:cNvGrpSpPr/>
            <p:nvPr/>
          </p:nvGrpSpPr>
          <p:grpSpPr>
            <a:xfrm>
              <a:off x="1219320" y="1828800"/>
              <a:ext cx="1523880" cy="457200"/>
              <a:chOff x="1219320" y="1828800"/>
              <a:chExt cx="1523880" cy="457200"/>
            </a:xfrm>
          </p:grpSpPr>
          <p:sp>
            <p:nvSpPr>
              <p:cNvPr id="95" name=""/>
              <p:cNvSpPr/>
              <p:nvPr/>
            </p:nvSpPr>
            <p:spPr>
              <a:xfrm>
                <a:off x="1219320" y="1828800"/>
                <a:ext cx="15238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64400" y="1901880"/>
                <a:ext cx="123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:Giocato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361400" y="1828800"/>
              <a:ext cx="2259360" cy="457200"/>
              <a:chOff x="4361400" y="1828800"/>
              <a:chExt cx="2259360" cy="457200"/>
            </a:xfrm>
          </p:grpSpPr>
          <p:sp>
            <p:nvSpPr>
              <p:cNvPr id="98" name=""/>
              <p:cNvSpPr/>
              <p:nvPr/>
            </p:nvSpPr>
            <p:spPr>
              <a:xfrm>
                <a:off x="4386240" y="1828800"/>
                <a:ext cx="221004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361400" y="1901880"/>
                <a:ext cx="225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/Campionato:Torne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152280" y="3581280"/>
            <a:ext cx="8610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zioni che eventualmente legano tali ru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rati come ASSOCIATION ROLE (rappresentano generici “links” tra i generici oggetti [ruoli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09480" y="5181480"/>
            <a:ext cx="1523880" cy="457200"/>
            <a:chOff x="609480" y="5181480"/>
            <a:chExt cx="1523880" cy="457200"/>
          </a:xfrm>
        </p:grpSpPr>
        <p:sp>
          <p:nvSpPr>
            <p:cNvPr id="102" name=""/>
            <p:cNvSpPr/>
            <p:nvPr/>
          </p:nvSpPr>
          <p:spPr>
            <a:xfrm>
              <a:off x="609480" y="5181480"/>
              <a:ext cx="15238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1000" y="525456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C1:Copp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886200" y="5181480"/>
            <a:ext cx="1495440" cy="457200"/>
            <a:chOff x="3886200" y="5181480"/>
            <a:chExt cx="1495440" cy="457200"/>
          </a:xfrm>
        </p:grpSpPr>
        <p:sp>
          <p:nvSpPr>
            <p:cNvPr id="105" name=""/>
            <p:cNvSpPr/>
            <p:nvPr/>
          </p:nvSpPr>
          <p:spPr>
            <a:xfrm>
              <a:off x="3886200" y="5181480"/>
              <a:ext cx="14954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50080" y="525456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Torne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238880" y="5181480"/>
            <a:ext cx="1523880" cy="457200"/>
            <a:chOff x="7238880" y="5181480"/>
            <a:chExt cx="1523880" cy="457200"/>
          </a:xfrm>
        </p:grpSpPr>
        <p:sp>
          <p:nvSpPr>
            <p:cNvPr id="108" name=""/>
            <p:cNvSpPr/>
            <p:nvPr/>
          </p:nvSpPr>
          <p:spPr>
            <a:xfrm>
              <a:off x="7238880" y="5181480"/>
              <a:ext cx="15238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40400" y="525456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C2:Copp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133720" y="541008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54100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3160" y="5342040"/>
            <a:ext cx="16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critt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5840" y="5340240"/>
            <a:ext cx="16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critt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048120" y="5638320"/>
            <a:ext cx="3276360" cy="831600"/>
            <a:chOff x="3048120" y="5638320"/>
            <a:chExt cx="3276360" cy="831600"/>
          </a:xfrm>
        </p:grpSpPr>
        <p:sp>
          <p:nvSpPr>
            <p:cNvPr id="115" name=""/>
            <p:cNvSpPr/>
            <p:nvPr/>
          </p:nvSpPr>
          <p:spPr>
            <a:xfrm flipV="1">
              <a:off x="5638680" y="5638320"/>
              <a:ext cx="685800" cy="685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048120" y="5638320"/>
              <a:ext cx="1371600" cy="7621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17320" y="6010200"/>
              <a:ext cx="209016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ssociation r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5409720" y="2361960"/>
            <a:ext cx="2564640" cy="1181520"/>
            <a:chOff x="5409720" y="2361960"/>
            <a:chExt cx="2564640" cy="1181520"/>
          </a:xfrm>
        </p:grpSpPr>
        <p:sp>
          <p:nvSpPr>
            <p:cNvPr id="119" name=""/>
            <p:cNvSpPr/>
            <p:nvPr/>
          </p:nvSpPr>
          <p:spPr>
            <a:xfrm flipH="1" flipV="1">
              <a:off x="5409720" y="2361960"/>
              <a:ext cx="1295640" cy="904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51400" y="2865600"/>
              <a:ext cx="1722960" cy="67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erso della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unic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gredienti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61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GIO =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crizione di una comunicazione/interazione tra due ruol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19320" y="1828800"/>
            <a:ext cx="7006320" cy="828720"/>
            <a:chOff x="1219320" y="1828800"/>
            <a:chExt cx="7006320" cy="828720"/>
          </a:xfrm>
        </p:grpSpPr>
        <p:grpSp>
          <p:nvGrpSpPr>
            <p:cNvPr id="124" name=""/>
            <p:cNvGrpSpPr/>
            <p:nvPr/>
          </p:nvGrpSpPr>
          <p:grpSpPr>
            <a:xfrm>
              <a:off x="1219320" y="2200320"/>
              <a:ext cx="1523880" cy="457200"/>
              <a:chOff x="1219320" y="2200320"/>
              <a:chExt cx="152388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1219320" y="2200320"/>
                <a:ext cx="15238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364400" y="2273400"/>
                <a:ext cx="123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:Giocato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966280" y="2200320"/>
              <a:ext cx="2259360" cy="457200"/>
              <a:chOff x="5966280" y="2200320"/>
              <a:chExt cx="2259360" cy="457200"/>
            </a:xfrm>
          </p:grpSpPr>
          <p:sp>
            <p:nvSpPr>
              <p:cNvPr id="128" name=""/>
              <p:cNvSpPr/>
              <p:nvPr/>
            </p:nvSpPr>
            <p:spPr>
              <a:xfrm>
                <a:off x="5991120" y="2200320"/>
                <a:ext cx="221004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966280" y="2273400"/>
                <a:ext cx="225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/Campionato:Torne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743200" y="24382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24080" y="228600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3520" y="1828800"/>
              <a:ext cx="16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ssagg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280" y="3429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uard    sequence-expr     return-value :=    message-name (argument-li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028480" y="4114800"/>
            <a:ext cx="2565720" cy="1274760"/>
            <a:chOff x="5028480" y="4114800"/>
            <a:chExt cx="2565720" cy="1274760"/>
          </a:xfrm>
        </p:grpSpPr>
        <p:sp>
          <p:nvSpPr>
            <p:cNvPr id="135" name=""/>
            <p:cNvSpPr/>
            <p:nvPr/>
          </p:nvSpPr>
          <p:spPr>
            <a:xfrm flipV="1">
              <a:off x="6095880" y="4114800"/>
              <a:ext cx="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28480" y="4419720"/>
              <a:ext cx="2565720" cy="96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zione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gnal [prossimamente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 create o destro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618680" y="4114440"/>
            <a:ext cx="1369440" cy="1490760"/>
            <a:chOff x="7618680" y="4114440"/>
            <a:chExt cx="1369440" cy="1490760"/>
          </a:xfrm>
        </p:grpSpPr>
        <p:sp>
          <p:nvSpPr>
            <p:cNvPr id="138" name=""/>
            <p:cNvSpPr/>
            <p:nvPr/>
          </p:nvSpPr>
          <p:spPr>
            <a:xfrm flipH="1" flipV="1">
              <a:off x="7619760" y="4114440"/>
              <a:ext cx="369720" cy="304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18680" y="4343400"/>
              <a:ext cx="1369440" cy="1261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zion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goment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zione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584520" y="4114800"/>
            <a:ext cx="1363320" cy="1858680"/>
            <a:chOff x="3584520" y="4114800"/>
            <a:chExt cx="1363320" cy="1858680"/>
          </a:xfrm>
        </p:grpSpPr>
        <p:sp>
          <p:nvSpPr>
            <p:cNvPr id="141" name=""/>
            <p:cNvSpPr/>
            <p:nvPr/>
          </p:nvSpPr>
          <p:spPr>
            <a:xfrm flipV="1">
              <a:off x="4191120" y="4114800"/>
              <a:ext cx="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4520" y="4419720"/>
              <a:ext cx="1363320" cy="1553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zion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zion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itorn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isul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674360" y="4165200"/>
            <a:ext cx="1829520" cy="2150640"/>
            <a:chOff x="1674360" y="4165200"/>
            <a:chExt cx="1829520" cy="2150640"/>
          </a:xfrm>
        </p:grpSpPr>
        <p:sp>
          <p:nvSpPr>
            <p:cNvPr id="144" name=""/>
            <p:cNvSpPr/>
            <p:nvPr/>
          </p:nvSpPr>
          <p:spPr>
            <a:xfrm flipH="1" flipV="1">
              <a:off x="2285640" y="4165200"/>
              <a:ext cx="304920" cy="533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74360" y="4470120"/>
              <a:ext cx="1829520" cy="1845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inisc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’ordine rela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 i messagg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senti 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abo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a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440" y="4191120"/>
            <a:ext cx="1689480" cy="2442240"/>
            <a:chOff x="1440" y="4191120"/>
            <a:chExt cx="1689480" cy="2442240"/>
          </a:xfrm>
        </p:grpSpPr>
        <p:sp>
          <p:nvSpPr>
            <p:cNvPr id="147" name=""/>
            <p:cNvSpPr/>
            <p:nvPr/>
          </p:nvSpPr>
          <p:spPr>
            <a:xfrm flipV="1">
              <a:off x="762120" y="4191120"/>
              <a:ext cx="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40" y="4495680"/>
              <a:ext cx="1689480" cy="2137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spress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olea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ssere ver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ima di pot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nda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l messagg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gredienti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143000"/>
            <a:ext cx="8610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i di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0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rona (il mandante aspetta la fine dell’azione che risulta dalla comunica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20574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638680" y="2514600"/>
            <a:ext cx="1752840" cy="152280"/>
            <a:chOff x="5638680" y="2514600"/>
            <a:chExt cx="1752840" cy="152280"/>
          </a:xfrm>
        </p:grpSpPr>
        <p:sp>
          <p:nvSpPr>
            <p:cNvPr id="153" name=""/>
            <p:cNvSpPr/>
            <p:nvPr/>
          </p:nvSpPr>
          <p:spPr>
            <a:xfrm>
              <a:off x="5638680" y="266688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2920" y="2514600"/>
              <a:ext cx="2286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095880" y="40384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54864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2514600"/>
            <a:ext cx="8686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ts val="20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ncrona (il mandante non aspetta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3886200"/>
            <a:ext cx="8763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ts val="20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(non si precisa se sincrono o asincro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4952880"/>
            <a:ext cx="8763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ts val="20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(esplicita il ritorno del controllo del flusso al chiam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empio Collaboratio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1143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rizione di una coppia ad un tor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35200" y="2200320"/>
            <a:ext cx="1523880" cy="457200"/>
            <a:chOff x="835200" y="2200320"/>
            <a:chExt cx="1523880" cy="457200"/>
          </a:xfrm>
        </p:grpSpPr>
        <p:sp>
          <p:nvSpPr>
            <p:cNvPr id="163" name=""/>
            <p:cNvSpPr/>
            <p:nvPr/>
          </p:nvSpPr>
          <p:spPr>
            <a:xfrm>
              <a:off x="835200" y="2200320"/>
              <a:ext cx="15238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49680" y="2324160"/>
              <a:ext cx="129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G1:Gioca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581880" y="2200320"/>
            <a:ext cx="1647720" cy="466560"/>
            <a:chOff x="6581880" y="2200320"/>
            <a:chExt cx="1647720" cy="466560"/>
          </a:xfrm>
        </p:grpSpPr>
        <p:sp>
          <p:nvSpPr>
            <p:cNvPr id="166" name=""/>
            <p:cNvSpPr/>
            <p:nvPr/>
          </p:nvSpPr>
          <p:spPr>
            <a:xfrm>
              <a:off x="6581880" y="2200320"/>
              <a:ext cx="1647720" cy="466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28200" y="2324160"/>
              <a:ext cx="95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T:Torn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362320" y="24382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182880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: nuovoTorneo(\T,desc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03160" y="5791320"/>
            <a:ext cx="1523880" cy="457200"/>
            <a:chOff x="803160" y="5791320"/>
            <a:chExt cx="1523880" cy="457200"/>
          </a:xfrm>
        </p:grpSpPr>
        <p:sp>
          <p:nvSpPr>
            <p:cNvPr id="171" name=""/>
            <p:cNvSpPr/>
            <p:nvPr/>
          </p:nvSpPr>
          <p:spPr>
            <a:xfrm>
              <a:off x="803160" y="5791320"/>
              <a:ext cx="15238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17640" y="5915160"/>
              <a:ext cx="129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G2:Gioca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343400" y="4343400"/>
            <a:ext cx="1647720" cy="466560"/>
            <a:chOff x="4343400" y="4343400"/>
            <a:chExt cx="1647720" cy="466560"/>
          </a:xfrm>
        </p:grpSpPr>
        <p:sp>
          <p:nvSpPr>
            <p:cNvPr id="174" name=""/>
            <p:cNvSpPr/>
            <p:nvPr/>
          </p:nvSpPr>
          <p:spPr>
            <a:xfrm>
              <a:off x="4343400" y="4343400"/>
              <a:ext cx="1647720" cy="466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79640" y="446724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C:Copp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752480" y="2666880"/>
            <a:ext cx="281952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12800">
            <a:off x="2224800" y="3661920"/>
            <a:ext cx="167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600200" y="4800600"/>
            <a:ext cx="297180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20505000">
            <a:off x="2277000" y="4952520"/>
            <a:ext cx="16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6668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334120" y="2666520"/>
            <a:ext cx="190476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22860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657240" y="21337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17520" y="3354480"/>
            <a:ext cx="380880" cy="1522440"/>
            <a:chOff x="1217520" y="3354480"/>
            <a:chExt cx="380880" cy="1522440"/>
          </a:xfrm>
        </p:grpSpPr>
        <p:sp>
          <p:nvSpPr>
            <p:cNvPr id="185" name=""/>
            <p:cNvSpPr/>
            <p:nvPr/>
          </p:nvSpPr>
          <p:spPr>
            <a:xfrm>
              <a:off x="1217520" y="3656160"/>
              <a:ext cx="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400000">
              <a:off x="683280" y="3962160"/>
              <a:ext cx="152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: si(\T,desc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05880" y="3123360"/>
            <a:ext cx="389880" cy="1906560"/>
            <a:chOff x="605880" y="3123360"/>
            <a:chExt cx="389880" cy="1906560"/>
          </a:xfrm>
        </p:grpSpPr>
        <p:sp>
          <p:nvSpPr>
            <p:cNvPr id="188" name=""/>
            <p:cNvSpPr/>
            <p:nvPr/>
          </p:nvSpPr>
          <p:spPr>
            <a:xfrm flipH="1">
              <a:off x="605880" y="3427560"/>
              <a:ext cx="7200" cy="12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419200">
              <a:off x="-115200" y="39229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: interessa(\T,desc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838240" y="2931120"/>
            <a:ext cx="1485360" cy="998280"/>
            <a:chOff x="2838240" y="2931120"/>
            <a:chExt cx="1485360" cy="998280"/>
          </a:xfrm>
        </p:grpSpPr>
        <p:sp>
          <p:nvSpPr>
            <p:cNvPr id="191" name=""/>
            <p:cNvSpPr/>
            <p:nvPr/>
          </p:nvSpPr>
          <p:spPr>
            <a:xfrm rot="1714200">
              <a:off x="2818800" y="327672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 attivatiPer(\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12920" y="3402720"/>
              <a:ext cx="937080" cy="51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980320" y="3007440"/>
            <a:ext cx="1453320" cy="1272960"/>
            <a:chOff x="5980320" y="3007440"/>
            <a:chExt cx="1453320" cy="1272960"/>
          </a:xfrm>
        </p:grpSpPr>
        <p:sp>
          <p:nvSpPr>
            <p:cNvPr id="194" name=""/>
            <p:cNvSpPr/>
            <p:nvPr/>
          </p:nvSpPr>
          <p:spPr>
            <a:xfrm rot="19300800">
              <a:off x="5943960" y="335232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: iscrivi(\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413400" y="3348360"/>
              <a:ext cx="657720" cy="51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300800">
              <a:off x="6250320" y="36284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: ok(\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616800" y="3626280"/>
              <a:ext cx="657360" cy="51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727000" y="5063040"/>
            <a:ext cx="1251720" cy="696600"/>
            <a:chOff x="2727000" y="5063040"/>
            <a:chExt cx="1251720" cy="696600"/>
          </a:xfrm>
        </p:grpSpPr>
        <p:sp>
          <p:nvSpPr>
            <p:cNvPr id="199" name=""/>
            <p:cNvSpPr/>
            <p:nvPr/>
          </p:nvSpPr>
          <p:spPr>
            <a:xfrm rot="20430000">
              <a:off x="2743200" y="52574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: ok(\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094560" y="5454360"/>
              <a:ext cx="790200" cy="28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04360" y="2611440"/>
            <a:ext cx="1209960" cy="874800"/>
            <a:chOff x="3204360" y="2611440"/>
            <a:chExt cx="1209960" cy="874800"/>
          </a:xfrm>
        </p:grpSpPr>
        <p:sp>
          <p:nvSpPr>
            <p:cNvPr id="202" name=""/>
            <p:cNvSpPr/>
            <p:nvPr/>
          </p:nvSpPr>
          <p:spPr>
            <a:xfrm rot="1796400">
              <a:off x="3199680" y="289512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 ok(\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95880" y="3062520"/>
              <a:ext cx="726120" cy="41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are il class diagram della briscola in modo che tutte le operazioni usate nel collaboration della slide precedente siano defi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e i collaboration diagram corrispondenti ai ca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partner non è interessato al torn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ppia tenta di iscriversi quando il torneo è già compl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quence-exp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 ordinati  (es., 1:   2: …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zioni eseguite una dopo l’al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zioni annidate (esguite nel body di un metodo/operaz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. 2.1:    2.2:    2.3:       2.2.1:   2.2.2:     2.2.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alunque liv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empio2 Collaboratio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21932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arsi per giocare una partita in un tor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019920" y="2971800"/>
            <a:ext cx="1647720" cy="466560"/>
            <a:chOff x="6019920" y="2971800"/>
            <a:chExt cx="1647720" cy="466560"/>
          </a:xfrm>
        </p:grpSpPr>
        <p:sp>
          <p:nvSpPr>
            <p:cNvPr id="211" name=""/>
            <p:cNvSpPr/>
            <p:nvPr/>
          </p:nvSpPr>
          <p:spPr>
            <a:xfrm>
              <a:off x="6019920" y="2971800"/>
              <a:ext cx="1647720" cy="466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66240" y="3095640"/>
              <a:ext cx="95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T:Torn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219320" y="5248440"/>
            <a:ext cx="1647720" cy="466560"/>
            <a:chOff x="1219320" y="5248440"/>
            <a:chExt cx="1647720" cy="466560"/>
          </a:xfrm>
        </p:grpSpPr>
        <p:sp>
          <p:nvSpPr>
            <p:cNvPr id="214" name=""/>
            <p:cNvSpPr/>
            <p:nvPr/>
          </p:nvSpPr>
          <p:spPr>
            <a:xfrm>
              <a:off x="1219320" y="5248440"/>
              <a:ext cx="1647720" cy="466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06240" y="5372280"/>
              <a:ext cx="107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C2:Copp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219320" y="1905120"/>
            <a:ext cx="1647720" cy="466560"/>
            <a:chOff x="1219320" y="1905120"/>
            <a:chExt cx="1647720" cy="466560"/>
          </a:xfrm>
        </p:grpSpPr>
        <p:sp>
          <p:nvSpPr>
            <p:cNvPr id="217" name=""/>
            <p:cNvSpPr/>
            <p:nvPr/>
          </p:nvSpPr>
          <p:spPr>
            <a:xfrm>
              <a:off x="1219320" y="1905120"/>
              <a:ext cx="1647720" cy="466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06240" y="2028960"/>
              <a:ext cx="107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C1:Copp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131920" y="2820960"/>
            <a:ext cx="457200" cy="2130480"/>
            <a:chOff x="2131920" y="2820960"/>
            <a:chExt cx="457200" cy="2130480"/>
          </a:xfrm>
        </p:grpSpPr>
        <p:sp>
          <p:nvSpPr>
            <p:cNvPr id="220" name=""/>
            <p:cNvSpPr/>
            <p:nvPr/>
          </p:nvSpPr>
          <p:spPr>
            <a:xfrm>
              <a:off x="2131920" y="3124080"/>
              <a:ext cx="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5400000">
              <a:off x="1370160" y="3732480"/>
              <a:ext cx="213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: contropropsta(P,D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520280" y="2362320"/>
            <a:ext cx="460800" cy="2896920"/>
            <a:chOff x="1520280" y="2362320"/>
            <a:chExt cx="460800" cy="2896920"/>
          </a:xfrm>
        </p:grpSpPr>
        <p:sp>
          <p:nvSpPr>
            <p:cNvPr id="223" name=""/>
            <p:cNvSpPr/>
            <p:nvPr/>
          </p:nvSpPr>
          <p:spPr>
            <a:xfrm flipH="1">
              <a:off x="1520280" y="2973240"/>
              <a:ext cx="7200" cy="12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81080" y="2362320"/>
              <a:ext cx="0" cy="28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19200">
              <a:off x="677880" y="35784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: proposta(P,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474000" y="2351880"/>
            <a:ext cx="1995480" cy="804600"/>
            <a:chOff x="3474000" y="2351880"/>
            <a:chExt cx="1995480" cy="804600"/>
          </a:xfrm>
        </p:grpSpPr>
        <p:sp>
          <p:nvSpPr>
            <p:cNvPr id="227" name=""/>
            <p:cNvSpPr/>
            <p:nvPr/>
          </p:nvSpPr>
          <p:spPr>
            <a:xfrm rot="860400">
              <a:off x="3480840" y="259236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 fissaData(P,D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32880" y="2892240"/>
              <a:ext cx="1033920" cy="26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1938240"/>
            <a:ext cx="3581640" cy="3471480"/>
            <a:chOff x="2895480" y="1938240"/>
            <a:chExt cx="3581640" cy="3471480"/>
          </a:xfrm>
        </p:grpSpPr>
        <p:sp>
          <p:nvSpPr>
            <p:cNvPr id="230" name=""/>
            <p:cNvSpPr/>
            <p:nvPr/>
          </p:nvSpPr>
          <p:spPr>
            <a:xfrm flipV="1">
              <a:off x="2895480" y="3428640"/>
              <a:ext cx="342900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9744200">
              <a:off x="4115520" y="42667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2: giocate(P,\C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5480" y="2057400"/>
              <a:ext cx="35816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778200">
              <a:off x="4266720" y="2133360"/>
              <a:ext cx="177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1: giocate(P,\C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4648320" y="2286000"/>
              <a:ext cx="1124640" cy="371880"/>
              <a:chOff x="4648320" y="2286000"/>
              <a:chExt cx="1124640" cy="371880"/>
            </a:xfrm>
          </p:grpSpPr>
          <p:sp>
            <p:nvSpPr>
              <p:cNvPr id="235" name=""/>
              <p:cNvSpPr/>
              <p:nvPr/>
            </p:nvSpPr>
            <p:spPr>
              <a:xfrm>
                <a:off x="4666680" y="2371680"/>
                <a:ext cx="1106280" cy="28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648320" y="2286000"/>
                <a:ext cx="30456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4562640" y="4397040"/>
              <a:ext cx="1000800" cy="592560"/>
              <a:chOff x="4562640" y="4397040"/>
              <a:chExt cx="1000800" cy="592560"/>
            </a:xfrm>
          </p:grpSpPr>
          <p:sp>
            <p:nvSpPr>
              <p:cNvPr id="238" name=""/>
              <p:cNvSpPr/>
              <p:nvPr/>
            </p:nvSpPr>
            <p:spPr>
              <a:xfrm flipV="1">
                <a:off x="4582080" y="4397040"/>
                <a:ext cx="981360" cy="58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4562640" y="4719240"/>
                <a:ext cx="159840" cy="27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304920" y="601992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tenete accettabile questo procediment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aso negativo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odifica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323400" y="2048760"/>
            <a:ext cx="2518200" cy="1227960"/>
            <a:chOff x="6323400" y="2048760"/>
            <a:chExt cx="2518200" cy="1227960"/>
          </a:xfrm>
        </p:grpSpPr>
        <p:sp>
          <p:nvSpPr>
            <p:cNvPr id="242" name=""/>
            <p:cNvSpPr/>
            <p:nvPr/>
          </p:nvSpPr>
          <p:spPr>
            <a:xfrm flipV="1">
              <a:off x="7086600" y="2438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6600" y="24382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77320" y="243828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695720" y="32767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9200">
              <a:off x="6324120" y="2055600"/>
              <a:ext cx="25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: fissaPartita(P,\C1,\C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114800" y="4114800"/>
            <a:ext cx="2057400" cy="9144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495320" y="3505320"/>
            <a:ext cx="685800" cy="17524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2T02:45:13Z</dcterms:created>
  <dc:creator>gr</dc:creator>
  <dc:description/>
  <dc:language>en-US</dc:language>
  <cp:lastModifiedBy>jj jj</cp:lastModifiedBy>
  <dcterms:modified xsi:type="dcterms:W3CDTF">2004-01-29T09:31:18Z</dcterms:modified>
  <cp:revision>438</cp:revision>
  <dc:subject/>
  <dc:title>No Slide Title</dc:title>
</cp:coreProperties>
</file>