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992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124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992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124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3992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5124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3992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5124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990720"/>
            <a:ext cx="8686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69640" y="63770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.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equ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i agli instanc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lab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fasi è sulle relazioni strutturali tra i partecipanti alla collaborazione (dati dagli association r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fasi è sull’ordine con cui vengono scambiati i messaggi lungo il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Sequence Chart (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to usati, specialmente nell’ambito dei sistemi di telecomunic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(ISO 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ù ricchi, es. possibilità di compor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514240" y="3048120"/>
            <a:ext cx="5868360" cy="2666880"/>
            <a:chOff x="2514240" y="3048120"/>
            <a:chExt cx="5868360" cy="2666880"/>
          </a:xfrm>
        </p:grpSpPr>
        <p:sp>
          <p:nvSpPr>
            <p:cNvPr id="80" name=""/>
            <p:cNvSpPr/>
            <p:nvPr/>
          </p:nvSpPr>
          <p:spPr>
            <a:xfrm>
              <a:off x="6400800" y="304812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ovoTorneo(T,desc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19720" y="3352680"/>
              <a:ext cx="388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419360" y="320040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3800">
              <a:off x="2514600" y="342864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sa(T,desc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666520" y="373392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666520" y="411480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3800">
              <a:off x="2514600" y="376344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(T,desc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343040" y="449568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3800">
              <a:off x="4343400" y="414468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tivatiPer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477120" y="464832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3800">
              <a:off x="6477120" y="429696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crivi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3800">
              <a:off x="6477120" y="487656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552720" y="518148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3800">
              <a:off x="4495680" y="495252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419360" y="52578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3800">
              <a:off x="4495680" y="540972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666880" y="5715000"/>
              <a:ext cx="381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empio Sequence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143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spondente al collaboration “iscrizione di una coppia ad un torneo” visto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752480" y="2646360"/>
            <a:ext cx="7238880" cy="333360"/>
            <a:chOff x="1752480" y="2646360"/>
            <a:chExt cx="7238880" cy="333360"/>
          </a:xfrm>
        </p:grpSpPr>
        <p:grpSp>
          <p:nvGrpSpPr>
            <p:cNvPr id="100" name=""/>
            <p:cNvGrpSpPr/>
            <p:nvPr/>
          </p:nvGrpSpPr>
          <p:grpSpPr>
            <a:xfrm>
              <a:off x="7772400" y="2658960"/>
              <a:ext cx="1218960" cy="307080"/>
              <a:chOff x="7772400" y="2658960"/>
              <a:chExt cx="1218960" cy="307080"/>
            </a:xfrm>
          </p:grpSpPr>
          <p:sp>
            <p:nvSpPr>
              <p:cNvPr id="101" name=""/>
              <p:cNvSpPr/>
              <p:nvPr/>
            </p:nvSpPr>
            <p:spPr>
              <a:xfrm>
                <a:off x="7772400" y="2658960"/>
                <a:ext cx="121896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930080" y="2658960"/>
                <a:ext cx="90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:Torne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867280" y="2646360"/>
              <a:ext cx="1218960" cy="333360"/>
              <a:chOff x="5867280" y="2646360"/>
              <a:chExt cx="1218960" cy="333360"/>
            </a:xfrm>
          </p:grpSpPr>
          <p:sp>
            <p:nvSpPr>
              <p:cNvPr id="104" name=""/>
              <p:cNvSpPr/>
              <p:nvPr/>
            </p:nvSpPr>
            <p:spPr>
              <a:xfrm>
                <a:off x="6015240" y="264636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:Copp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7280" y="2675160"/>
                <a:ext cx="121896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504960" y="2658960"/>
              <a:ext cx="1523880" cy="307080"/>
              <a:chOff x="3504960" y="2658960"/>
              <a:chExt cx="1523880" cy="307080"/>
            </a:xfrm>
          </p:grpSpPr>
          <p:sp>
            <p:nvSpPr>
              <p:cNvPr id="107" name=""/>
              <p:cNvSpPr/>
              <p:nvPr/>
            </p:nvSpPr>
            <p:spPr>
              <a:xfrm>
                <a:off x="3645360" y="2658960"/>
                <a:ext cx="124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G1:Gioca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04960" y="2658960"/>
                <a:ext cx="1523880" cy="304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752480" y="2658960"/>
              <a:ext cx="1523880" cy="307080"/>
              <a:chOff x="1752480" y="2658960"/>
              <a:chExt cx="1523880" cy="307080"/>
            </a:xfrm>
          </p:grpSpPr>
          <p:sp>
            <p:nvSpPr>
              <p:cNvPr id="110" name=""/>
              <p:cNvSpPr/>
              <p:nvPr/>
            </p:nvSpPr>
            <p:spPr>
              <a:xfrm>
                <a:off x="1892520" y="2658960"/>
                <a:ext cx="124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G2:Gioca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52480" y="2658960"/>
                <a:ext cx="15238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2514600" y="2971800"/>
            <a:ext cx="152280" cy="3657600"/>
            <a:chOff x="2514600" y="2971800"/>
            <a:chExt cx="152280" cy="3657600"/>
          </a:xfrm>
        </p:grpSpPr>
        <p:sp>
          <p:nvSpPr>
            <p:cNvPr id="113" name=""/>
            <p:cNvSpPr/>
            <p:nvPr/>
          </p:nvSpPr>
          <p:spPr>
            <a:xfrm>
              <a:off x="2514600" y="3733920"/>
              <a:ext cx="1522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5715000"/>
              <a:ext cx="152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90560" y="297180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90560" y="426708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90560" y="60199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267080" y="2971800"/>
            <a:ext cx="152280" cy="3505320"/>
            <a:chOff x="4267080" y="2971800"/>
            <a:chExt cx="152280" cy="3505320"/>
          </a:xfrm>
        </p:grpSpPr>
        <p:sp>
          <p:nvSpPr>
            <p:cNvPr id="119" name=""/>
            <p:cNvSpPr/>
            <p:nvPr/>
          </p:nvSpPr>
          <p:spPr>
            <a:xfrm>
              <a:off x="4267080" y="335268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7080" y="5257800"/>
              <a:ext cx="152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3400" y="4572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3400" y="55627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400800" y="2971800"/>
            <a:ext cx="152280" cy="3733920"/>
            <a:chOff x="6400800" y="2971800"/>
            <a:chExt cx="152280" cy="3733920"/>
          </a:xfrm>
        </p:grpSpPr>
        <p:sp>
          <p:nvSpPr>
            <p:cNvPr id="125" name=""/>
            <p:cNvSpPr/>
            <p:nvPr/>
          </p:nvSpPr>
          <p:spPr>
            <a:xfrm>
              <a:off x="6400800" y="4495680"/>
              <a:ext cx="1522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6760" y="29718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76760" y="586728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8229600" y="2971800"/>
            <a:ext cx="152280" cy="3733920"/>
            <a:chOff x="8229600" y="2971800"/>
            <a:chExt cx="152280" cy="3733920"/>
          </a:xfrm>
        </p:grpSpPr>
        <p:sp>
          <p:nvSpPr>
            <p:cNvPr id="129" name=""/>
            <p:cNvSpPr/>
            <p:nvPr/>
          </p:nvSpPr>
          <p:spPr>
            <a:xfrm>
              <a:off x="8229600" y="4648320"/>
              <a:ext cx="1522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05560" y="297180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05560" y="53341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-5040" y="2286000"/>
            <a:ext cx="469800" cy="4038480"/>
            <a:chOff x="-5040" y="2286000"/>
            <a:chExt cx="469800" cy="4038480"/>
          </a:xfrm>
        </p:grpSpPr>
        <p:sp>
          <p:nvSpPr>
            <p:cNvPr id="133" name=""/>
            <p:cNvSpPr/>
            <p:nvPr/>
          </p:nvSpPr>
          <p:spPr>
            <a:xfrm>
              <a:off x="460080" y="2286000"/>
              <a:ext cx="0" cy="4038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34200">
              <a:off x="-284040" y="340200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em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881440" y="5333760"/>
            <a:ext cx="3519360" cy="1454040"/>
            <a:chOff x="2881440" y="5333760"/>
            <a:chExt cx="3519360" cy="1454040"/>
          </a:xfrm>
        </p:grpSpPr>
        <p:sp>
          <p:nvSpPr>
            <p:cNvPr id="136" name=""/>
            <p:cNvSpPr/>
            <p:nvPr/>
          </p:nvSpPr>
          <p:spPr>
            <a:xfrm flipV="1">
              <a:off x="5410080" y="5333760"/>
              <a:ext cx="990720" cy="685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590400">
              <a:off x="2882520" y="5927400"/>
              <a:ext cx="31280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focus of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Quando l’oggetto è attiv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perche esegue un’azione o 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passato il controllo ad un alt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048120" y="1630080"/>
            <a:ext cx="4038480" cy="657720"/>
            <a:chOff x="3048120" y="1630080"/>
            <a:chExt cx="4038480" cy="657720"/>
          </a:xfrm>
        </p:grpSpPr>
        <p:sp>
          <p:nvSpPr>
            <p:cNvPr id="139" name=""/>
            <p:cNvSpPr/>
            <p:nvPr/>
          </p:nvSpPr>
          <p:spPr>
            <a:xfrm flipV="1">
              <a:off x="3048120" y="2284200"/>
              <a:ext cx="4038480" cy="3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11600">
              <a:off x="4726080" y="1647720"/>
              <a:ext cx="1095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ogget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841320" y="3352320"/>
            <a:ext cx="4797360" cy="2420640"/>
            <a:chOff x="841320" y="3352320"/>
            <a:chExt cx="4797360" cy="2420640"/>
          </a:xfrm>
        </p:grpSpPr>
        <p:sp>
          <p:nvSpPr>
            <p:cNvPr id="142" name=""/>
            <p:cNvSpPr/>
            <p:nvPr/>
          </p:nvSpPr>
          <p:spPr>
            <a:xfrm rot="21590400">
              <a:off x="842040" y="5105520"/>
              <a:ext cx="14518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stim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come per 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collab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00200" y="4114440"/>
              <a:ext cx="1676520" cy="1143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752480" y="3352320"/>
              <a:ext cx="3886200" cy="20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630120" y="5638320"/>
            <a:ext cx="1675800" cy="1011240"/>
            <a:chOff x="6630120" y="5638320"/>
            <a:chExt cx="1675800" cy="1011240"/>
          </a:xfrm>
        </p:grpSpPr>
        <p:sp>
          <p:nvSpPr>
            <p:cNvPr id="146" name=""/>
            <p:cNvSpPr/>
            <p:nvPr/>
          </p:nvSpPr>
          <p:spPr>
            <a:xfrm rot="21590400">
              <a:off x="6630480" y="6248160"/>
              <a:ext cx="165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object lif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315200" y="5638320"/>
              <a:ext cx="990720" cy="6858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gredienti dei sequence diagram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per i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95680" y="1676520"/>
            <a:ext cx="1524240" cy="307080"/>
            <a:chOff x="4495680" y="1676520"/>
            <a:chExt cx="1524240" cy="307080"/>
          </a:xfrm>
        </p:grpSpPr>
        <p:sp>
          <p:nvSpPr>
            <p:cNvPr id="151" name=""/>
            <p:cNvSpPr/>
            <p:nvPr/>
          </p:nvSpPr>
          <p:spPr>
            <a:xfrm>
              <a:off x="4636440" y="1676520"/>
              <a:ext cx="124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G2:Gioca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95680" y="1676520"/>
              <a:ext cx="152424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91520" y="2209680"/>
            <a:ext cx="1523880" cy="1684080"/>
            <a:chOff x="7391520" y="2209680"/>
            <a:chExt cx="1523880" cy="1684080"/>
          </a:xfrm>
        </p:grpSpPr>
        <p:sp>
          <p:nvSpPr>
            <p:cNvPr id="154" name=""/>
            <p:cNvSpPr/>
            <p:nvPr/>
          </p:nvSpPr>
          <p:spPr>
            <a:xfrm>
              <a:off x="8076960" y="252216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391520" y="2209680"/>
              <a:ext cx="1523880" cy="307080"/>
              <a:chOff x="7391520" y="2209680"/>
              <a:chExt cx="1523880" cy="307080"/>
            </a:xfrm>
          </p:grpSpPr>
          <p:sp>
            <p:nvSpPr>
              <p:cNvPr id="156" name=""/>
              <p:cNvSpPr/>
              <p:nvPr/>
            </p:nvSpPr>
            <p:spPr>
              <a:xfrm>
                <a:off x="7531560" y="2209680"/>
                <a:ext cx="124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G2:Gioca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2209680"/>
                <a:ext cx="15238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8305920" y="3505320"/>
            <a:ext cx="152280" cy="2286000"/>
            <a:chOff x="8305920" y="3505320"/>
            <a:chExt cx="152280" cy="2286000"/>
          </a:xfrm>
        </p:grpSpPr>
        <p:sp>
          <p:nvSpPr>
            <p:cNvPr id="159" name=""/>
            <p:cNvSpPr/>
            <p:nvPr/>
          </p:nvSpPr>
          <p:spPr>
            <a:xfrm>
              <a:off x="8305920" y="38862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82240" y="35053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2240" y="5105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362320" y="6477120"/>
            <a:ext cx="4952880" cy="152280"/>
            <a:chOff x="2362320" y="6477120"/>
            <a:chExt cx="4952880" cy="152280"/>
          </a:xfrm>
        </p:grpSpPr>
        <p:sp>
          <p:nvSpPr>
            <p:cNvPr id="163" name=""/>
            <p:cNvSpPr/>
            <p:nvPr/>
          </p:nvSpPr>
          <p:spPr>
            <a:xfrm>
              <a:off x="2362320" y="66294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809880" y="6477120"/>
              <a:ext cx="990720" cy="152280"/>
              <a:chOff x="3809880" y="6477120"/>
              <a:chExt cx="990720" cy="152280"/>
            </a:xfrm>
          </p:grpSpPr>
          <p:sp>
            <p:nvSpPr>
              <p:cNvPr id="165" name=""/>
              <p:cNvSpPr/>
              <p:nvPr/>
            </p:nvSpPr>
            <p:spPr>
              <a:xfrm>
                <a:off x="3809880" y="662940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2000" y="6477120"/>
                <a:ext cx="2286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5181480" y="6629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120" y="66294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28600" y="2133720"/>
            <a:ext cx="86104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l’oggetto esiste prima di una interazione 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o la linea va dall’inizio alla fine del diagr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429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 che l’oggetto controlla l’interazione poichè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gue qualche azione o ha delegato un altr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getto a farlo per lui (per interazioni sincr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5105520"/>
            <a:ext cx="8763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i tra il lifeline del mandante e quello del rice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per i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gredienti dei sequence diagram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zione e terminazione di 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66680" y="1752480"/>
            <a:ext cx="3886200" cy="2286000"/>
            <a:chOff x="1066680" y="1752480"/>
            <a:chExt cx="3886200" cy="2286000"/>
          </a:xfrm>
        </p:grpSpPr>
        <p:sp>
          <p:nvSpPr>
            <p:cNvPr id="175" name=""/>
            <p:cNvSpPr/>
            <p:nvPr/>
          </p:nvSpPr>
          <p:spPr>
            <a:xfrm rot="13800">
              <a:off x="1676520" y="228564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429000" y="2362320"/>
              <a:ext cx="1523880" cy="307080"/>
              <a:chOff x="3429000" y="2362320"/>
              <a:chExt cx="1523880" cy="307080"/>
            </a:xfrm>
          </p:grpSpPr>
          <p:sp>
            <p:nvSpPr>
              <p:cNvPr id="177" name=""/>
              <p:cNvSpPr/>
              <p:nvPr/>
            </p:nvSpPr>
            <p:spPr>
              <a:xfrm>
                <a:off x="3801240" y="2362320"/>
                <a:ext cx="78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newOb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29000" y="2362320"/>
                <a:ext cx="15238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1066680" y="1752480"/>
              <a:ext cx="1524240" cy="307080"/>
              <a:chOff x="1066680" y="1752480"/>
              <a:chExt cx="1524240" cy="307080"/>
            </a:xfrm>
          </p:grpSpPr>
          <p:sp>
            <p:nvSpPr>
              <p:cNvPr id="180" name=""/>
              <p:cNvSpPr/>
              <p:nvPr/>
            </p:nvSpPr>
            <p:spPr>
              <a:xfrm>
                <a:off x="1618920" y="175248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b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066680" y="1752480"/>
                <a:ext cx="15242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H="1">
              <a:off x="1828440" y="251460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3800">
              <a:off x="1676520" y="307764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ro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1120" y="2666880"/>
              <a:ext cx="1522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2306520"/>
              <a:ext cx="152280" cy="11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52480" y="205740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52480" y="34290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828800" y="335268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9920" y="3124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6320" y="4648320"/>
            <a:ext cx="4266720" cy="2057040"/>
            <a:chOff x="76320" y="4648320"/>
            <a:chExt cx="4266720" cy="2057040"/>
          </a:xfrm>
        </p:grpSpPr>
        <p:sp>
          <p:nvSpPr>
            <p:cNvPr id="191" name=""/>
            <p:cNvSpPr/>
            <p:nvPr/>
          </p:nvSpPr>
          <p:spPr>
            <a:xfrm rot="13800">
              <a:off x="995040" y="5059440"/>
              <a:ext cx="124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[cond1] me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424320" y="4648320"/>
              <a:ext cx="918720" cy="307080"/>
              <a:chOff x="3424320" y="4648320"/>
              <a:chExt cx="918720" cy="307080"/>
            </a:xfrm>
          </p:grpSpPr>
          <p:sp>
            <p:nvSpPr>
              <p:cNvPr id="193" name=""/>
              <p:cNvSpPr/>
              <p:nvPr/>
            </p:nvSpPr>
            <p:spPr>
              <a:xfrm>
                <a:off x="3624120" y="4648320"/>
                <a:ext cx="51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bj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24320" y="4648320"/>
                <a:ext cx="918720" cy="274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6320" y="4648320"/>
              <a:ext cx="1312560" cy="307080"/>
              <a:chOff x="76320" y="4648320"/>
              <a:chExt cx="1312560" cy="307080"/>
            </a:xfrm>
          </p:grpSpPr>
          <p:sp>
            <p:nvSpPr>
              <p:cNvPr id="196" name=""/>
              <p:cNvSpPr/>
              <p:nvPr/>
            </p:nvSpPr>
            <p:spPr>
              <a:xfrm>
                <a:off x="523080" y="464832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b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320" y="4648320"/>
                <a:ext cx="1312560" cy="274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>
              <a:off x="732600" y="5265360"/>
              <a:ext cx="15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200" y="5146920"/>
              <a:ext cx="131400" cy="10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080" y="4922640"/>
              <a:ext cx="0" cy="223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7080" y="6157080"/>
              <a:ext cx="0" cy="54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717560" y="5814360"/>
              <a:ext cx="203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2280" y="5814360"/>
              <a:ext cx="13140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18160" y="4904280"/>
              <a:ext cx="0" cy="910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18160" y="6138720"/>
              <a:ext cx="0" cy="54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914480" y="4648320"/>
              <a:ext cx="918720" cy="307080"/>
              <a:chOff x="1914480" y="4648320"/>
              <a:chExt cx="918720" cy="307080"/>
            </a:xfrm>
          </p:grpSpPr>
          <p:sp>
            <p:nvSpPr>
              <p:cNvPr id="207" name=""/>
              <p:cNvSpPr/>
              <p:nvPr/>
            </p:nvSpPr>
            <p:spPr>
              <a:xfrm>
                <a:off x="2114280" y="4648320"/>
                <a:ext cx="51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bj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14480" y="4648320"/>
                <a:ext cx="918720" cy="274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242440" y="5128200"/>
              <a:ext cx="131040" cy="61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08320" y="4904280"/>
              <a:ext cx="0" cy="223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08320" y="5745600"/>
              <a:ext cx="0" cy="54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2600" y="5265360"/>
              <a:ext cx="984600" cy="54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800">
              <a:off x="1980000" y="5950800"/>
              <a:ext cx="124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[cond2] me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28600" y="38862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bra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410080" y="4572000"/>
            <a:ext cx="3581280" cy="2286000"/>
            <a:chOff x="5410080" y="4572000"/>
            <a:chExt cx="3581280" cy="2286000"/>
          </a:xfrm>
        </p:grpSpPr>
        <p:sp>
          <p:nvSpPr>
            <p:cNvPr id="216" name=""/>
            <p:cNvSpPr/>
            <p:nvPr/>
          </p:nvSpPr>
          <p:spPr>
            <a:xfrm rot="13800">
              <a:off x="6274440" y="5028840"/>
              <a:ext cx="117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[cond1] me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410080" y="4572000"/>
              <a:ext cx="1234800" cy="307080"/>
              <a:chOff x="5410080" y="4572000"/>
              <a:chExt cx="1234800" cy="307080"/>
            </a:xfrm>
          </p:grpSpPr>
          <p:sp>
            <p:nvSpPr>
              <p:cNvPr id="218" name=""/>
              <p:cNvSpPr/>
              <p:nvPr/>
            </p:nvSpPr>
            <p:spPr>
              <a:xfrm>
                <a:off x="5817600" y="457200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b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10080" y="4572000"/>
                <a:ext cx="123480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H="1">
              <a:off x="6027120" y="5257800"/>
              <a:ext cx="142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04000" y="5126040"/>
              <a:ext cx="123120" cy="11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65560" y="487692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65560" y="6248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953760" y="5867280"/>
              <a:ext cx="191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68240" y="5867280"/>
              <a:ext cx="1231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930160" y="533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930160" y="622764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138800" y="4572000"/>
              <a:ext cx="864720" cy="307080"/>
              <a:chOff x="7138800" y="4572000"/>
              <a:chExt cx="864720" cy="307080"/>
            </a:xfrm>
          </p:grpSpPr>
          <p:sp>
            <p:nvSpPr>
              <p:cNvPr id="229" name=""/>
              <p:cNvSpPr/>
              <p:nvPr/>
            </p:nvSpPr>
            <p:spPr>
              <a:xfrm>
                <a:off x="7311960" y="4572000"/>
                <a:ext cx="51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bj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38800" y="4572000"/>
                <a:ext cx="86472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7448040" y="5105520"/>
              <a:ext cx="1231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09600" y="485604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09600" y="586728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27120" y="5257800"/>
              <a:ext cx="9262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3800">
              <a:off x="7200720" y="6019560"/>
              <a:ext cx="117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[cond2] me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09600" y="5029200"/>
              <a:ext cx="142056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509600" y="6553080"/>
              <a:ext cx="1420560" cy="76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257800" y="38862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a stessa lif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gredienti dei sequence diagram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sending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29718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76920" y="1219320"/>
            <a:ext cx="1981800" cy="2286000"/>
            <a:chOff x="4876920" y="1219320"/>
            <a:chExt cx="1981800" cy="2286000"/>
          </a:xfrm>
        </p:grpSpPr>
        <p:sp>
          <p:nvSpPr>
            <p:cNvPr id="243" name=""/>
            <p:cNvSpPr/>
            <p:nvPr/>
          </p:nvSpPr>
          <p:spPr>
            <a:xfrm rot="13800">
              <a:off x="4952880" y="167616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4876920" y="1219320"/>
              <a:ext cx="1523880" cy="307080"/>
              <a:chOff x="4876920" y="1219320"/>
              <a:chExt cx="1523880" cy="307080"/>
            </a:xfrm>
          </p:grpSpPr>
          <p:sp>
            <p:nvSpPr>
              <p:cNvPr id="245" name=""/>
              <p:cNvSpPr/>
              <p:nvPr/>
            </p:nvSpPr>
            <p:spPr>
              <a:xfrm>
                <a:off x="5428440" y="121932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b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76920" y="1219320"/>
                <a:ext cx="15238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>
              <a:off x="5638680" y="1981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6400" y="1773360"/>
              <a:ext cx="15228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152388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62720" y="2895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638680" y="2819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5880" y="198108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838080" y="3962520"/>
            <a:ext cx="3429720" cy="2133360"/>
            <a:chOff x="838080" y="3962520"/>
            <a:chExt cx="3429720" cy="2133360"/>
          </a:xfrm>
        </p:grpSpPr>
        <p:sp>
          <p:nvSpPr>
            <p:cNvPr id="254" name=""/>
            <p:cNvSpPr/>
            <p:nvPr/>
          </p:nvSpPr>
          <p:spPr>
            <a:xfrm rot="13800">
              <a:off x="1757520" y="441936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666880" y="3962520"/>
              <a:ext cx="919440" cy="307080"/>
              <a:chOff x="2666880" y="3962520"/>
              <a:chExt cx="919440" cy="307080"/>
            </a:xfrm>
          </p:grpSpPr>
          <p:sp>
            <p:nvSpPr>
              <p:cNvPr id="256" name=""/>
              <p:cNvSpPr/>
              <p:nvPr/>
            </p:nvSpPr>
            <p:spPr>
              <a:xfrm>
                <a:off x="2867400" y="3962520"/>
                <a:ext cx="51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bj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66880" y="3962520"/>
                <a:ext cx="919440" cy="274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38080" y="4038480"/>
              <a:ext cx="1312920" cy="307080"/>
              <a:chOff x="838080" y="4038480"/>
              <a:chExt cx="1312920" cy="307080"/>
            </a:xfrm>
          </p:grpSpPr>
          <p:sp>
            <p:nvSpPr>
              <p:cNvPr id="259" name=""/>
              <p:cNvSpPr/>
              <p:nvPr/>
            </p:nvSpPr>
            <p:spPr>
              <a:xfrm>
                <a:off x="1284840" y="403848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b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38080" y="4038480"/>
                <a:ext cx="1312920" cy="2746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H="1">
              <a:off x="1495440" y="4656240"/>
              <a:ext cx="15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63680" y="4537080"/>
              <a:ext cx="131760" cy="10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28840" y="4313160"/>
              <a:ext cx="0" cy="223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28840" y="5546880"/>
              <a:ext cx="0" cy="549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71800" y="4648320"/>
              <a:ext cx="1522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047760" y="4218120"/>
              <a:ext cx="1260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0720" y="5452920"/>
              <a:ext cx="0" cy="547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533412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523880" y="49528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3800">
              <a:off x="1752480" y="467784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3800">
              <a:off x="1724040" y="505908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43000" y="4419720"/>
              <a:ext cx="220968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3800">
              <a:off x="2057400" y="5638680"/>
              <a:ext cx="22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[recurrence condition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352680" y="4114800"/>
            <a:ext cx="4446720" cy="1191240"/>
            <a:chOff x="3352680" y="4114800"/>
            <a:chExt cx="4446720" cy="1191240"/>
          </a:xfrm>
        </p:grpSpPr>
        <p:sp>
          <p:nvSpPr>
            <p:cNvPr id="275" name=""/>
            <p:cNvSpPr/>
            <p:nvPr/>
          </p:nvSpPr>
          <p:spPr>
            <a:xfrm>
              <a:off x="4348080" y="4114800"/>
              <a:ext cx="3451320" cy="1191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l gruppo di messaggi racchius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l rettang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 ripete mentre vale l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urrence condi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352680" y="4724280"/>
              <a:ext cx="990720" cy="763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gredienti dei sequence diagram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ts val="22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tazioni test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0920" indent="-16560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62760" indent="-1324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solito sulla sinistra del diagramma, vicino ai messaggi che descriv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0920" indent="-16560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62760" indent="-1324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vono la durata del tempo tra due messa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485680" y="3352680"/>
            <a:ext cx="3353040" cy="1828440"/>
            <a:chOff x="5485680" y="3352680"/>
            <a:chExt cx="3353040" cy="1828440"/>
          </a:xfrm>
        </p:grpSpPr>
        <p:grpSp>
          <p:nvGrpSpPr>
            <p:cNvPr id="280" name=""/>
            <p:cNvGrpSpPr/>
            <p:nvPr/>
          </p:nvGrpSpPr>
          <p:grpSpPr>
            <a:xfrm>
              <a:off x="5672160" y="3352680"/>
              <a:ext cx="3166560" cy="1828440"/>
              <a:chOff x="5672160" y="3352680"/>
              <a:chExt cx="3166560" cy="1828440"/>
            </a:xfrm>
          </p:grpSpPr>
          <p:sp>
            <p:nvSpPr>
              <p:cNvPr id="281" name=""/>
              <p:cNvSpPr/>
              <p:nvPr/>
            </p:nvSpPr>
            <p:spPr>
              <a:xfrm rot="13800">
                <a:off x="6168960" y="3778920"/>
                <a:ext cx="1551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7597080" y="3840480"/>
                <a:ext cx="1241640" cy="307080"/>
                <a:chOff x="7597080" y="3840480"/>
                <a:chExt cx="1241640" cy="307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828200" y="3840480"/>
                  <a:ext cx="78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newOb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597080" y="3840480"/>
                  <a:ext cx="1241640" cy="243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5672160" y="3352680"/>
                <a:ext cx="1242000" cy="307080"/>
                <a:chOff x="5672160" y="3352680"/>
                <a:chExt cx="1242000" cy="3070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081480" y="3352680"/>
                  <a:ext cx="41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ob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672160" y="3352680"/>
                  <a:ext cx="1242000" cy="243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 flipH="1">
                <a:off x="6293160" y="3962160"/>
                <a:ext cx="130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3800">
                <a:off x="6168960" y="4412520"/>
                <a:ext cx="1551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ro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18080" y="4084200"/>
                <a:ext cx="123840" cy="54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68960" y="3795840"/>
                <a:ext cx="123840" cy="89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230880" y="3596400"/>
                <a:ext cx="0" cy="19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30880" y="4693680"/>
                <a:ext cx="0" cy="48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292800" y="4632840"/>
                <a:ext cx="192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095320" y="44499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H="1">
              <a:off x="5548320" y="396216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548320" y="463212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7440" y="396216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lg"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85680" y="4154400"/>
              <a:ext cx="672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 30 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828800" y="4800600"/>
            <a:ext cx="3662280" cy="2133720"/>
            <a:chOff x="1828800" y="4800600"/>
            <a:chExt cx="3662280" cy="2133720"/>
          </a:xfrm>
        </p:grpSpPr>
        <p:grpSp>
          <p:nvGrpSpPr>
            <p:cNvPr id="301" name=""/>
            <p:cNvGrpSpPr/>
            <p:nvPr/>
          </p:nvGrpSpPr>
          <p:grpSpPr>
            <a:xfrm>
              <a:off x="2743200" y="4800600"/>
              <a:ext cx="2747880" cy="2133720"/>
              <a:chOff x="2743200" y="4800600"/>
              <a:chExt cx="2747880" cy="2133720"/>
            </a:xfrm>
          </p:grpSpPr>
          <p:sp>
            <p:nvSpPr>
              <p:cNvPr id="302" name=""/>
              <p:cNvSpPr/>
              <p:nvPr/>
            </p:nvSpPr>
            <p:spPr>
              <a:xfrm rot="13800">
                <a:off x="3662280" y="5257440"/>
                <a:ext cx="124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:  mes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4572000" y="4800600"/>
                <a:ext cx="919080" cy="307080"/>
                <a:chOff x="4572000" y="4800600"/>
                <a:chExt cx="919080" cy="3070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772520" y="480060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obj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572000" y="4800600"/>
                  <a:ext cx="919080" cy="2746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743200" y="4876920"/>
                <a:ext cx="1312920" cy="307080"/>
                <a:chOff x="2743200" y="4876920"/>
                <a:chExt cx="1312920" cy="3070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189960" y="4876920"/>
                  <a:ext cx="41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ob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743200" y="4876920"/>
                  <a:ext cx="1312920" cy="2746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 flipH="1">
                <a:off x="3400200" y="5494320"/>
                <a:ext cx="15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268800" y="5375520"/>
                <a:ext cx="13176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33600" y="5151600"/>
                <a:ext cx="0" cy="22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33600" y="6384960"/>
                <a:ext cx="0" cy="54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76920" y="5486400"/>
                <a:ext cx="152280" cy="7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4952880" y="5056200"/>
                <a:ext cx="12960" cy="43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65840" y="6291360"/>
                <a:ext cx="0" cy="54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429000" y="6172200"/>
                <a:ext cx="144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3429000" y="5791320"/>
                <a:ext cx="144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3800">
                <a:off x="3657600" y="5516280"/>
                <a:ext cx="124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:  me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3800">
                <a:off x="3629160" y="5897160"/>
                <a:ext cx="124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: mes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828800" y="5334120"/>
              <a:ext cx="131292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 a.sendTime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.receiveTime 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s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29520" y="6066000"/>
              <a:ext cx="13161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c.receiveTime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.receiveTime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s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0" y="35812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enti gli intervalli di temp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 i vari messa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2T02:45:13Z</dcterms:created>
  <dc:creator>gr</dc:creator>
  <dc:description/>
  <dc:language>en-US</dc:language>
  <cp:lastModifiedBy>x</cp:lastModifiedBy>
  <cp:lastPrinted>2004-01-27T02:11:21Z</cp:lastPrinted>
  <dcterms:modified xsi:type="dcterms:W3CDTF">2004-01-27T02:14:35Z</dcterms:modified>
  <cp:revision>474</cp:revision>
  <dc:subject/>
  <dc:title>No Slide Title</dc:title>
</cp:coreProperties>
</file>