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2280" y="207000"/>
            <a:ext cx="86868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104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48560"/>
            <a:ext cx="86104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280" y="207000"/>
            <a:ext cx="86868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015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40760" y="1143000"/>
            <a:ext cx="42015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015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40760" y="4048560"/>
            <a:ext cx="42015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207000"/>
            <a:ext cx="86868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2772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39920" y="1143000"/>
            <a:ext cx="2772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51240" y="1143000"/>
            <a:ext cx="2772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48560"/>
            <a:ext cx="2772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39920" y="4048560"/>
            <a:ext cx="2772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51240" y="4048560"/>
            <a:ext cx="2772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207000"/>
            <a:ext cx="86868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8600" y="114300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280" y="207000"/>
            <a:ext cx="86868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280" y="207000"/>
            <a:ext cx="86868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015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40760" y="1143000"/>
            <a:ext cx="42015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280" y="207000"/>
            <a:ext cx="86868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52280" y="22824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207000"/>
            <a:ext cx="86868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015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0760" y="1143000"/>
            <a:ext cx="42015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015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52280" y="207000"/>
            <a:ext cx="86868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4300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207000"/>
            <a:ext cx="86868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015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0760" y="1143000"/>
            <a:ext cx="42015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40760" y="4048560"/>
            <a:ext cx="42015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207000"/>
            <a:ext cx="86868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015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0760" y="1143000"/>
            <a:ext cx="42015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86104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207000"/>
            <a:ext cx="86868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104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228600" y="4048560"/>
            <a:ext cx="86104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2280" y="207000"/>
            <a:ext cx="86868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015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0760" y="1143000"/>
            <a:ext cx="42015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015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40760" y="4048560"/>
            <a:ext cx="42015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207000"/>
            <a:ext cx="86868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2772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139920" y="1143000"/>
            <a:ext cx="2772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51240" y="1143000"/>
            <a:ext cx="2772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28600" y="4048560"/>
            <a:ext cx="2772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139920" y="4048560"/>
            <a:ext cx="2772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51240" y="4048560"/>
            <a:ext cx="2772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2280" y="207000"/>
            <a:ext cx="86868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280" y="207000"/>
            <a:ext cx="86868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015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40760" y="1143000"/>
            <a:ext cx="42015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207000"/>
            <a:ext cx="86868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52280" y="22824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207000"/>
            <a:ext cx="86868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015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40760" y="1143000"/>
            <a:ext cx="42015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015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207000"/>
            <a:ext cx="86868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015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40760" y="1143000"/>
            <a:ext cx="42015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40760" y="4048560"/>
            <a:ext cx="42015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280" y="207000"/>
            <a:ext cx="86868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015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40760" y="1143000"/>
            <a:ext cx="42015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86104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300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"/>
              <a:buChar char="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52280" y="990720"/>
            <a:ext cx="86868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90320" y="6400800"/>
            <a:ext cx="130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rsione 0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ass Diagr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104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s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 classi (degli oggetti utilizzati in un certo modell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 lor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499"/>
              </a:spcBef>
              <a:buClr>
                <a:srgbClr val="000000"/>
              </a:buClr>
              <a:buFont typeface="Arial"/>
              <a:buChar char="*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tribu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499"/>
              </a:spcBef>
              <a:buClr>
                <a:srgbClr val="000000"/>
              </a:buClr>
              <a:buFont typeface="Arial"/>
              <a:buChar char="*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razioni/meto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 loro mutue relazio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499"/>
              </a:spcBef>
              <a:buClr>
                <a:srgbClr val="000000"/>
              </a:buClr>
              <a:buFont typeface="Arial"/>
              <a:buChar char="*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istenza di associazioni tra i loro elemen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499"/>
              </a:spcBef>
              <a:buClr>
                <a:srgbClr val="000000"/>
              </a:buClr>
              <a:buFont typeface="Arial"/>
              <a:buChar char="*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alizzazione/inheri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499"/>
              </a:spcBef>
              <a:buClr>
                <a:srgbClr val="000000"/>
              </a:buClr>
              <a:buFont typeface="Arial"/>
              <a:buChar char="*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gregazione/composiz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lti u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lazione concettu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fica del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zione dell’implement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ggregazione/Composizio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104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ociazioni speciali per indicare che gli oggetti di una classe sono fatti/o contengono oggetti di un’al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gregazio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968400" y="2514600"/>
            <a:ext cx="6858000" cy="870840"/>
            <a:chOff x="968400" y="2514600"/>
            <a:chExt cx="6858000" cy="870840"/>
          </a:xfrm>
        </p:grpSpPr>
        <p:grpSp>
          <p:nvGrpSpPr>
            <p:cNvPr id="192" name=""/>
            <p:cNvGrpSpPr/>
            <p:nvPr/>
          </p:nvGrpSpPr>
          <p:grpSpPr>
            <a:xfrm>
              <a:off x="968400" y="2743200"/>
              <a:ext cx="2209680" cy="457200"/>
              <a:chOff x="968400" y="2743200"/>
              <a:chExt cx="2209680" cy="457200"/>
            </a:xfrm>
          </p:grpSpPr>
          <p:sp>
            <p:nvSpPr>
              <p:cNvPr id="193" name=""/>
              <p:cNvSpPr/>
              <p:nvPr/>
            </p:nvSpPr>
            <p:spPr>
              <a:xfrm>
                <a:off x="968400" y="2743200"/>
                <a:ext cx="220968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1691640" y="2816280"/>
                <a:ext cx="762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Cart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5" name=""/>
            <p:cNvGrpSpPr/>
            <p:nvPr/>
          </p:nvGrpSpPr>
          <p:grpSpPr>
            <a:xfrm>
              <a:off x="6302520" y="2743200"/>
              <a:ext cx="1523880" cy="457200"/>
              <a:chOff x="6302520" y="2743200"/>
              <a:chExt cx="1523880" cy="457200"/>
            </a:xfrm>
          </p:grpSpPr>
          <p:sp>
            <p:nvSpPr>
              <p:cNvPr id="196" name=""/>
              <p:cNvSpPr/>
              <p:nvPr/>
            </p:nvSpPr>
            <p:spPr>
              <a:xfrm>
                <a:off x="6302520" y="2743200"/>
                <a:ext cx="152388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6631200" y="2816280"/>
                <a:ext cx="866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Mazz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8" name=""/>
            <p:cNvSpPr/>
            <p:nvPr/>
          </p:nvSpPr>
          <p:spPr>
            <a:xfrm>
              <a:off x="4129200" y="2514600"/>
              <a:ext cx="114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ontie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330720" y="3048120"/>
              <a:ext cx="114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.5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178080" y="2971800"/>
              <a:ext cx="2590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769000" y="2781360"/>
              <a:ext cx="533520" cy="380880"/>
            </a:xfrm>
            <a:prstGeom prst="flowChartDecision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6688080" y="3200400"/>
            <a:ext cx="1384560" cy="764280"/>
            <a:chOff x="6688080" y="3200400"/>
            <a:chExt cx="1384560" cy="764280"/>
          </a:xfrm>
        </p:grpSpPr>
        <p:sp>
          <p:nvSpPr>
            <p:cNvPr id="203" name=""/>
            <p:cNvSpPr/>
            <p:nvPr/>
          </p:nvSpPr>
          <p:spPr>
            <a:xfrm>
              <a:off x="6688080" y="3504960"/>
              <a:ext cx="1384560" cy="459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ggregat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759720" y="3200400"/>
              <a:ext cx="0" cy="5331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1811160" y="3200400"/>
            <a:ext cx="741600" cy="764280"/>
            <a:chOff x="1811160" y="3200400"/>
            <a:chExt cx="741600" cy="764280"/>
          </a:xfrm>
        </p:grpSpPr>
        <p:sp>
          <p:nvSpPr>
            <p:cNvPr id="206" name=""/>
            <p:cNvSpPr/>
            <p:nvPr/>
          </p:nvSpPr>
          <p:spPr>
            <a:xfrm>
              <a:off x="1811160" y="3504960"/>
              <a:ext cx="741600" cy="459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art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882800" y="3200400"/>
              <a:ext cx="0" cy="5331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8" name=""/>
          <p:cNvSpPr/>
          <p:nvPr/>
        </p:nvSpPr>
        <p:spPr>
          <a:xfrm>
            <a:off x="228600" y="4038480"/>
            <a:ext cx="861048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osizi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chiede coincidenza delle vite dell’aggregato e delle parti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968400" y="4943520"/>
            <a:ext cx="6858000" cy="870840"/>
            <a:chOff x="968400" y="4943520"/>
            <a:chExt cx="6858000" cy="870840"/>
          </a:xfrm>
        </p:grpSpPr>
        <p:sp>
          <p:nvSpPr>
            <p:cNvPr id="210" name=""/>
            <p:cNvSpPr/>
            <p:nvPr/>
          </p:nvSpPr>
          <p:spPr>
            <a:xfrm>
              <a:off x="4129200" y="4943520"/>
              <a:ext cx="1509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artecipant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1" name=""/>
            <p:cNvGrpSpPr/>
            <p:nvPr/>
          </p:nvGrpSpPr>
          <p:grpSpPr>
            <a:xfrm>
              <a:off x="968400" y="5172120"/>
              <a:ext cx="2209680" cy="457200"/>
              <a:chOff x="968400" y="5172120"/>
              <a:chExt cx="2209680" cy="457200"/>
            </a:xfrm>
          </p:grpSpPr>
          <p:sp>
            <p:nvSpPr>
              <p:cNvPr id="212" name=""/>
              <p:cNvSpPr/>
              <p:nvPr/>
            </p:nvSpPr>
            <p:spPr>
              <a:xfrm>
                <a:off x="968400" y="5172120"/>
                <a:ext cx="220968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1690920" y="5245200"/>
                <a:ext cx="1247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Giocato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4" name=""/>
            <p:cNvGrpSpPr/>
            <p:nvPr/>
          </p:nvGrpSpPr>
          <p:grpSpPr>
            <a:xfrm>
              <a:off x="6302520" y="5172120"/>
              <a:ext cx="1523880" cy="457200"/>
              <a:chOff x="6302520" y="5172120"/>
              <a:chExt cx="1523880" cy="457200"/>
            </a:xfrm>
          </p:grpSpPr>
          <p:sp>
            <p:nvSpPr>
              <p:cNvPr id="215" name=""/>
              <p:cNvSpPr/>
              <p:nvPr/>
            </p:nvSpPr>
            <p:spPr>
              <a:xfrm>
                <a:off x="6302520" y="5172120"/>
                <a:ext cx="152388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6631560" y="5245200"/>
                <a:ext cx="891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artit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3330720" y="5477040"/>
              <a:ext cx="114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178080" y="5372280"/>
              <a:ext cx="2590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769000" y="5181480"/>
              <a:ext cx="533520" cy="381240"/>
            </a:xfrm>
            <a:prstGeom prst="flowChartDecision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6688080" y="5629320"/>
            <a:ext cx="1384560" cy="764280"/>
            <a:chOff x="6688080" y="5629320"/>
            <a:chExt cx="1384560" cy="764280"/>
          </a:xfrm>
        </p:grpSpPr>
        <p:sp>
          <p:nvSpPr>
            <p:cNvPr id="221" name=""/>
            <p:cNvSpPr/>
            <p:nvPr/>
          </p:nvSpPr>
          <p:spPr>
            <a:xfrm>
              <a:off x="6688080" y="5933880"/>
              <a:ext cx="1384560" cy="459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ggregat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759720" y="5629320"/>
              <a:ext cx="0" cy="5331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1811160" y="5629320"/>
            <a:ext cx="741600" cy="764280"/>
            <a:chOff x="1811160" y="5629320"/>
            <a:chExt cx="741600" cy="764280"/>
          </a:xfrm>
        </p:grpSpPr>
        <p:sp>
          <p:nvSpPr>
            <p:cNvPr id="224" name=""/>
            <p:cNvSpPr/>
            <p:nvPr/>
          </p:nvSpPr>
          <p:spPr>
            <a:xfrm>
              <a:off x="1811160" y="5933880"/>
              <a:ext cx="741600" cy="459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art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882800" y="5629320"/>
              <a:ext cx="0" cy="5331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eneralizzazione (Specializzazion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4920" y="4038120"/>
            <a:ext cx="86104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-243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lunque numero di livel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rarchia di tip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heritance degli attributi e delle operazioni della superclas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pretazione dipende dall’uso del class dia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968400" y="1824480"/>
            <a:ext cx="6575400" cy="461520"/>
            <a:chOff x="968400" y="1824480"/>
            <a:chExt cx="6575400" cy="461520"/>
          </a:xfrm>
        </p:grpSpPr>
        <p:grpSp>
          <p:nvGrpSpPr>
            <p:cNvPr id="229" name=""/>
            <p:cNvGrpSpPr/>
            <p:nvPr/>
          </p:nvGrpSpPr>
          <p:grpSpPr>
            <a:xfrm>
              <a:off x="968400" y="1828800"/>
              <a:ext cx="2209680" cy="457200"/>
              <a:chOff x="968400" y="1828800"/>
              <a:chExt cx="2209680" cy="457200"/>
            </a:xfrm>
          </p:grpSpPr>
          <p:sp>
            <p:nvSpPr>
              <p:cNvPr id="230" name=""/>
              <p:cNvSpPr/>
              <p:nvPr/>
            </p:nvSpPr>
            <p:spPr>
              <a:xfrm>
                <a:off x="968400" y="1828800"/>
                <a:ext cx="220968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1690920" y="1901880"/>
                <a:ext cx="1247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Giocato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" name=""/>
            <p:cNvGrpSpPr/>
            <p:nvPr/>
          </p:nvGrpSpPr>
          <p:grpSpPr>
            <a:xfrm>
              <a:off x="6019920" y="1828800"/>
              <a:ext cx="1523880" cy="457200"/>
              <a:chOff x="6019920" y="1828800"/>
              <a:chExt cx="1523880" cy="457200"/>
            </a:xfrm>
          </p:grpSpPr>
          <p:sp>
            <p:nvSpPr>
              <p:cNvPr id="233" name=""/>
              <p:cNvSpPr/>
              <p:nvPr/>
            </p:nvSpPr>
            <p:spPr>
              <a:xfrm>
                <a:off x="6019920" y="1828800"/>
                <a:ext cx="152388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6348960" y="1901880"/>
                <a:ext cx="1131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Mazzie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5" name=""/>
            <p:cNvGrpSpPr/>
            <p:nvPr/>
          </p:nvGrpSpPr>
          <p:grpSpPr>
            <a:xfrm>
              <a:off x="3155040" y="1824480"/>
              <a:ext cx="2826360" cy="389160"/>
              <a:chOff x="3155040" y="1824480"/>
              <a:chExt cx="2826360" cy="389160"/>
            </a:xfrm>
          </p:grpSpPr>
          <p:sp>
            <p:nvSpPr>
              <p:cNvPr id="236" name=""/>
              <p:cNvSpPr/>
              <p:nvPr/>
            </p:nvSpPr>
            <p:spPr>
              <a:xfrm>
                <a:off x="3390840" y="2057400"/>
                <a:ext cx="2590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flipV="1" rot="5531400">
                <a:off x="3085560" y="1904400"/>
                <a:ext cx="380880" cy="228240"/>
              </a:xfrm>
              <a:prstGeom prst="flowChartExtra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8" name=""/>
          <p:cNvGrpSpPr/>
          <p:nvPr/>
        </p:nvGrpSpPr>
        <p:grpSpPr>
          <a:xfrm>
            <a:off x="6326640" y="2286000"/>
            <a:ext cx="1759680" cy="1495800"/>
            <a:chOff x="6326640" y="2286000"/>
            <a:chExt cx="1759680" cy="1495800"/>
          </a:xfrm>
        </p:grpSpPr>
        <p:sp>
          <p:nvSpPr>
            <p:cNvPr id="239" name=""/>
            <p:cNvSpPr/>
            <p:nvPr/>
          </p:nvSpPr>
          <p:spPr>
            <a:xfrm>
              <a:off x="6326640" y="2590560"/>
              <a:ext cx="1759680" cy="1191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ecializzat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sottoclasse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ottotipo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400800" y="2286000"/>
              <a:ext cx="0" cy="5331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1450080" y="2209680"/>
            <a:ext cx="1809720" cy="1495800"/>
            <a:chOff x="1450080" y="2209680"/>
            <a:chExt cx="1809720" cy="1495800"/>
          </a:xfrm>
        </p:grpSpPr>
        <p:sp>
          <p:nvSpPr>
            <p:cNvPr id="242" name=""/>
            <p:cNvSpPr/>
            <p:nvPr/>
          </p:nvSpPr>
          <p:spPr>
            <a:xfrm>
              <a:off x="1450080" y="2514240"/>
              <a:ext cx="1809720" cy="1191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generalizzat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superclasse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upertipo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523880" y="2209680"/>
              <a:ext cx="0" cy="5331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cializzazione multip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28600" y="4190760"/>
            <a:ext cx="8686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defined constraint può ess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/incomple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*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gni sottoclasse è/non è stata specific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joint/overlap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*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ttoclassi sicuramente disgiunte/possibilmente sovrappos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533520" y="1828800"/>
            <a:ext cx="3352680" cy="2057400"/>
            <a:chOff x="533520" y="1828800"/>
            <a:chExt cx="3352680" cy="2057400"/>
          </a:xfrm>
        </p:grpSpPr>
        <p:grpSp>
          <p:nvGrpSpPr>
            <p:cNvPr id="247" name=""/>
            <p:cNvGrpSpPr/>
            <p:nvPr/>
          </p:nvGrpSpPr>
          <p:grpSpPr>
            <a:xfrm>
              <a:off x="968400" y="1828800"/>
              <a:ext cx="2209680" cy="457200"/>
              <a:chOff x="968400" y="1828800"/>
              <a:chExt cx="2209680" cy="457200"/>
            </a:xfrm>
          </p:grpSpPr>
          <p:sp>
            <p:nvSpPr>
              <p:cNvPr id="248" name=""/>
              <p:cNvSpPr/>
              <p:nvPr/>
            </p:nvSpPr>
            <p:spPr>
              <a:xfrm>
                <a:off x="968400" y="1828800"/>
                <a:ext cx="220968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690920" y="1901880"/>
                <a:ext cx="1247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Giocato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0" name=""/>
            <p:cNvGrpSpPr/>
            <p:nvPr/>
          </p:nvGrpSpPr>
          <p:grpSpPr>
            <a:xfrm>
              <a:off x="2362320" y="3429000"/>
              <a:ext cx="1523880" cy="457200"/>
              <a:chOff x="2362320" y="3429000"/>
              <a:chExt cx="1523880" cy="457200"/>
            </a:xfrm>
          </p:grpSpPr>
          <p:sp>
            <p:nvSpPr>
              <p:cNvPr id="251" name=""/>
              <p:cNvSpPr/>
              <p:nvPr/>
            </p:nvSpPr>
            <p:spPr>
              <a:xfrm>
                <a:off x="2362320" y="3429000"/>
                <a:ext cx="152388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691360" y="3502080"/>
                <a:ext cx="1131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Mazzie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3" name=""/>
            <p:cNvSpPr/>
            <p:nvPr/>
          </p:nvSpPr>
          <p:spPr>
            <a:xfrm flipV="1" rot="10844400">
              <a:off x="1947600" y="2284920"/>
              <a:ext cx="380880" cy="228600"/>
            </a:xfrm>
            <a:prstGeom prst="flowChartExtra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133720" y="251460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5" name=""/>
            <p:cNvGrpSpPr/>
            <p:nvPr/>
          </p:nvGrpSpPr>
          <p:grpSpPr>
            <a:xfrm>
              <a:off x="533520" y="3429000"/>
              <a:ext cx="1523880" cy="457200"/>
              <a:chOff x="533520" y="3429000"/>
              <a:chExt cx="1523880" cy="457200"/>
            </a:xfrm>
          </p:grpSpPr>
          <p:sp>
            <p:nvSpPr>
              <p:cNvPr id="256" name=""/>
              <p:cNvSpPr/>
              <p:nvPr/>
            </p:nvSpPr>
            <p:spPr>
              <a:xfrm>
                <a:off x="533520" y="3429000"/>
                <a:ext cx="152388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862920" y="3502080"/>
                <a:ext cx="1093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Normal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8" name=""/>
            <p:cNvSpPr/>
            <p:nvPr/>
          </p:nvSpPr>
          <p:spPr>
            <a:xfrm>
              <a:off x="3048120" y="2895480"/>
              <a:ext cx="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295280" y="2895480"/>
              <a:ext cx="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295280" y="2895480"/>
              <a:ext cx="1752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1" name=""/>
          <p:cNvSpPr/>
          <p:nvPr/>
        </p:nvSpPr>
        <p:spPr>
          <a:xfrm>
            <a:off x="3577680" y="2057400"/>
            <a:ext cx="273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redefined constraint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arting poi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ato sugli usuali concetti O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gget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alizaz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pirato 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agrammi entity-relationship dal mondo 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343400" y="1895400"/>
            <a:ext cx="4191120" cy="459720"/>
          </a:xfrm>
          <a:prstGeom prst="borderCallout1">
            <a:avLst>
              <a:gd name="adj1" fmla="val 18750"/>
              <a:gd name="adj2" fmla="val -8333"/>
              <a:gd name="adj3" fmla="val 90921"/>
              <a:gd name="adj4" fmla="val -35976"/>
            </a:avLst>
          </a:prstGeom>
          <a:solidFill>
            <a:srgbClr val="ffff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rtimento degli attribu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572000" y="1219320"/>
            <a:ext cx="2438280" cy="459720"/>
          </a:xfrm>
          <a:prstGeom prst="borderCallout1">
            <a:avLst>
              <a:gd name="adj1" fmla="val 18750"/>
              <a:gd name="adj2" fmla="val -8333"/>
              <a:gd name="adj3" fmla="val 98981"/>
              <a:gd name="adj4" fmla="val -66263"/>
            </a:avLst>
          </a:prstGeom>
          <a:solidFill>
            <a:srgbClr val="ffff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me della clas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343400" y="2701800"/>
            <a:ext cx="4343400" cy="459720"/>
          </a:xfrm>
          <a:prstGeom prst="borderCallout1">
            <a:avLst>
              <a:gd name="adj1" fmla="val 18750"/>
              <a:gd name="adj2" fmla="val -8333"/>
              <a:gd name="adj3" fmla="val 34189"/>
              <a:gd name="adj4" fmla="val -34425"/>
            </a:avLst>
          </a:prstGeom>
          <a:solidFill>
            <a:srgbClr val="ffff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rtimento delle operazio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as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143000" y="1428840"/>
            <a:ext cx="2209680" cy="1676160"/>
            <a:chOff x="1143000" y="1428840"/>
            <a:chExt cx="2209680" cy="1676160"/>
          </a:xfrm>
        </p:grpSpPr>
        <p:sp>
          <p:nvSpPr>
            <p:cNvPr id="86" name=""/>
            <p:cNvSpPr/>
            <p:nvPr/>
          </p:nvSpPr>
          <p:spPr>
            <a:xfrm>
              <a:off x="1143000" y="1428840"/>
              <a:ext cx="2209680" cy="16761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143000" y="1885680"/>
              <a:ext cx="2209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143000" y="2571480"/>
              <a:ext cx="2209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866240" y="1501560"/>
              <a:ext cx="76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ar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144800" y="1958760"/>
              <a:ext cx="1564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me: Str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valore: I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144080" y="2661840"/>
              <a:ext cx="217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itornaValore(): I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227520" y="3440160"/>
            <a:ext cx="152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mess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609480" y="3857760"/>
            <a:ext cx="2209680" cy="1172520"/>
            <a:chOff x="609480" y="3857760"/>
            <a:chExt cx="2209680" cy="1172520"/>
          </a:xfrm>
        </p:grpSpPr>
        <p:sp>
          <p:nvSpPr>
            <p:cNvPr id="94" name=""/>
            <p:cNvSpPr/>
            <p:nvPr/>
          </p:nvSpPr>
          <p:spPr>
            <a:xfrm>
              <a:off x="609480" y="3857760"/>
              <a:ext cx="2209680" cy="1142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09480" y="4314600"/>
              <a:ext cx="2209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332720" y="3930480"/>
              <a:ext cx="76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ar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11280" y="4387680"/>
              <a:ext cx="1564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me: Str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valore: I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3429000" y="3986280"/>
            <a:ext cx="2209680" cy="914400"/>
            <a:chOff x="3429000" y="3986280"/>
            <a:chExt cx="2209680" cy="914400"/>
          </a:xfrm>
        </p:grpSpPr>
        <p:sp>
          <p:nvSpPr>
            <p:cNvPr id="99" name=""/>
            <p:cNvSpPr/>
            <p:nvPr/>
          </p:nvSpPr>
          <p:spPr>
            <a:xfrm>
              <a:off x="3429000" y="3986280"/>
              <a:ext cx="2209680" cy="9144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429000" y="4443480"/>
              <a:ext cx="2209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152240" y="4059360"/>
              <a:ext cx="76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ar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430080" y="4443480"/>
              <a:ext cx="217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itornaValore(): I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6095880" y="4214880"/>
            <a:ext cx="2209680" cy="457200"/>
            <a:chOff x="6095880" y="4214880"/>
            <a:chExt cx="2209680" cy="457200"/>
          </a:xfrm>
        </p:grpSpPr>
        <p:sp>
          <p:nvSpPr>
            <p:cNvPr id="104" name=""/>
            <p:cNvSpPr/>
            <p:nvPr/>
          </p:nvSpPr>
          <p:spPr>
            <a:xfrm>
              <a:off x="6095880" y="4214880"/>
              <a:ext cx="220968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819120" y="4287960"/>
              <a:ext cx="76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ar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218520" y="5165640"/>
            <a:ext cx="7951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rtimento mancante: nessuna informazione su i suoi element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rtimento vuoto: nessun elemento di quel ti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2819520" y="6019920"/>
            <a:ext cx="2209680" cy="685800"/>
            <a:chOff x="2819520" y="6019920"/>
            <a:chExt cx="2209680" cy="685800"/>
          </a:xfrm>
        </p:grpSpPr>
        <p:sp>
          <p:nvSpPr>
            <p:cNvPr id="108" name=""/>
            <p:cNvSpPr/>
            <p:nvPr/>
          </p:nvSpPr>
          <p:spPr>
            <a:xfrm>
              <a:off x="2819520" y="6019920"/>
              <a:ext cx="2209680" cy="6858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819520" y="6477120"/>
              <a:ext cx="2209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819520" y="6629760"/>
              <a:ext cx="2209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42400" y="6093000"/>
              <a:ext cx="76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ar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isibilità di attributi/operazion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vate  (-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ibile solo dentro la clas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blic (+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ibile solo dentro la classe e quelle associate ad essa (legate da associazioni [vediamo dopo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ected (#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ibile solo dentro la classe e le sue sottoclassi (specializzazioni [vediamo dopo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ipi di attributi ed operazion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1048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pi predefini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l corso useremo quelli di OCL (prossimamen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, String, Bool, Real, enumeration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gni classe definita nel modello corren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ttribut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610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valore[0..1]: Int  = 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990720" y="2781360"/>
            <a:ext cx="990360" cy="459720"/>
          </a:xfrm>
          <a:prstGeom prst="borderCallout1">
            <a:avLst>
              <a:gd name="adj1" fmla="val 18750"/>
              <a:gd name="adj2" fmla="val -8333"/>
              <a:gd name="adj3" fmla="val -103129"/>
              <a:gd name="adj4" fmla="val -9916"/>
            </a:avLst>
          </a:prstGeom>
          <a:solidFill>
            <a:srgbClr val="ffff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38080" y="1143000"/>
            <a:ext cx="1317600" cy="459720"/>
          </a:xfrm>
          <a:prstGeom prst="borderCallout1">
            <a:avLst>
              <a:gd name="adj1" fmla="val 18750"/>
              <a:gd name="adj2" fmla="val -8333"/>
              <a:gd name="adj3" fmla="val 198981"/>
              <a:gd name="adj4" fmla="val -40097"/>
            </a:avLst>
          </a:prstGeom>
          <a:solidFill>
            <a:srgbClr val="ffff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sibilit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352680" y="2666880"/>
            <a:ext cx="990720" cy="459720"/>
          </a:xfrm>
          <a:prstGeom prst="borderCallout1">
            <a:avLst>
              <a:gd name="adj1" fmla="val 18750"/>
              <a:gd name="adj2" fmla="val -8333"/>
              <a:gd name="adj3" fmla="val -73472"/>
              <a:gd name="adj4" fmla="val -73370"/>
            </a:avLst>
          </a:prstGeom>
          <a:solidFill>
            <a:srgbClr val="ffff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648320" y="1990800"/>
            <a:ext cx="2286000" cy="459720"/>
          </a:xfrm>
          <a:prstGeom prst="borderCallout1">
            <a:avLst>
              <a:gd name="adj1" fmla="val 18750"/>
              <a:gd name="adj2" fmla="val -8333"/>
              <a:gd name="adj3" fmla="val 17995"/>
              <a:gd name="adj4" fmla="val -39361"/>
            </a:avLst>
          </a:prstGeom>
          <a:solidFill>
            <a:srgbClr val="ffff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ore inizi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429000" y="1219320"/>
            <a:ext cx="2286000" cy="459720"/>
          </a:xfrm>
          <a:prstGeom prst="borderCallout1">
            <a:avLst>
              <a:gd name="adj1" fmla="val 18750"/>
              <a:gd name="adj2" fmla="val -8333"/>
              <a:gd name="adj3" fmla="val 156805"/>
              <a:gd name="adj4" fmla="val -67138"/>
            </a:avLst>
          </a:prstGeom>
          <a:solidFill>
            <a:srgbClr val="ffff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lteplicit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" y="4114800"/>
            <a:ext cx="86104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sibilità omessa = priv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lteplicità omessa = [1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po omesso = non importa quale 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erazion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4114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cambiaVal(nVal:I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90720" y="2781360"/>
            <a:ext cx="990360" cy="459720"/>
          </a:xfrm>
          <a:prstGeom prst="borderCallout1">
            <a:avLst>
              <a:gd name="adj1" fmla="val 18750"/>
              <a:gd name="adj2" fmla="val -8333"/>
              <a:gd name="adj3" fmla="val -103129"/>
              <a:gd name="adj4" fmla="val -9916"/>
            </a:avLst>
          </a:prstGeom>
          <a:solidFill>
            <a:srgbClr val="ffff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38080" y="1143000"/>
            <a:ext cx="1317600" cy="459720"/>
          </a:xfrm>
          <a:prstGeom prst="borderCallout1">
            <a:avLst>
              <a:gd name="adj1" fmla="val 18750"/>
              <a:gd name="adj2" fmla="val -8333"/>
              <a:gd name="adj3" fmla="val 198981"/>
              <a:gd name="adj4" fmla="val -40097"/>
            </a:avLst>
          </a:prstGeom>
          <a:solidFill>
            <a:srgbClr val="ffff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sibilit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646360"/>
            <a:ext cx="1524240" cy="459720"/>
          </a:xfrm>
          <a:prstGeom prst="borderCallout1">
            <a:avLst>
              <a:gd name="adj1" fmla="val 18750"/>
              <a:gd name="adj2" fmla="val -8333"/>
              <a:gd name="adj3" fmla="val -66509"/>
              <a:gd name="adj4" fmla="val -47694"/>
            </a:avLst>
          </a:prstGeom>
          <a:solidFill>
            <a:srgbClr val="ffff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met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4038480"/>
            <a:ext cx="861048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sibilità omessa = publ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metr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 valore e per riferi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 nome può essere omes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562720" y="2666880"/>
            <a:ext cx="1752480" cy="825480"/>
          </a:xfrm>
          <a:prstGeom prst="borderCallout1">
            <a:avLst>
              <a:gd name="adj1" fmla="val 18750"/>
              <a:gd name="adj2" fmla="val -8333"/>
              <a:gd name="adj3" fmla="val -44550"/>
              <a:gd name="adj4" fmla="val 120824"/>
            </a:avLst>
          </a:prstGeom>
          <a:solidFill>
            <a:srgbClr val="ffff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ss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met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88040" y="3863880"/>
            <a:ext cx="2041560" cy="825480"/>
          </a:xfrm>
          <a:prstGeom prst="borderCallout1">
            <a:avLst>
              <a:gd name="adj1" fmla="val 18750"/>
              <a:gd name="adj2" fmla="val -8333"/>
              <a:gd name="adj3" fmla="val -188185"/>
              <a:gd name="adj4" fmla="val 103875"/>
            </a:avLst>
          </a:prstGeom>
          <a:solidFill>
            <a:srgbClr val="ffff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torna un val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105520" y="1828800"/>
            <a:ext cx="3886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ritornaValore(): 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tod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È possibile specificare un’operazione dandone  un “body” per mezzo di un 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838080" y="2743200"/>
            <a:ext cx="2210040" cy="1676520"/>
            <a:chOff x="838080" y="2743200"/>
            <a:chExt cx="2210040" cy="1676520"/>
          </a:xfrm>
        </p:grpSpPr>
        <p:sp>
          <p:nvSpPr>
            <p:cNvPr id="136" name=""/>
            <p:cNvSpPr/>
            <p:nvPr/>
          </p:nvSpPr>
          <p:spPr>
            <a:xfrm>
              <a:off x="838080" y="2743200"/>
              <a:ext cx="2210040" cy="16765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38080" y="3200400"/>
              <a:ext cx="2210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38080" y="3886200"/>
              <a:ext cx="2210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561680" y="2816280"/>
              <a:ext cx="76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ar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42400" y="3297240"/>
              <a:ext cx="14076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eme: Str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valore: 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44920" y="4000680"/>
              <a:ext cx="194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itornaValore(): 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3048120" y="2895480"/>
            <a:ext cx="4876560" cy="1295640"/>
            <a:chOff x="3048120" y="2895480"/>
            <a:chExt cx="4876560" cy="1295640"/>
          </a:xfrm>
        </p:grpSpPr>
        <p:grpSp>
          <p:nvGrpSpPr>
            <p:cNvPr id="143" name=""/>
            <p:cNvGrpSpPr/>
            <p:nvPr/>
          </p:nvGrpSpPr>
          <p:grpSpPr>
            <a:xfrm>
              <a:off x="4419720" y="2895480"/>
              <a:ext cx="3504960" cy="1067040"/>
              <a:chOff x="4419720" y="2895480"/>
              <a:chExt cx="3504960" cy="1067040"/>
            </a:xfrm>
          </p:grpSpPr>
          <p:sp>
            <p:nvSpPr>
              <p:cNvPr id="144" name=""/>
              <p:cNvSpPr/>
              <p:nvPr/>
            </p:nvSpPr>
            <p:spPr>
              <a:xfrm flipH="1">
                <a:off x="4419720" y="2895480"/>
                <a:ext cx="457200" cy="381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876920" y="2895480"/>
                <a:ext cx="0" cy="381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4419720" y="3276720"/>
                <a:ext cx="457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876920" y="2895480"/>
                <a:ext cx="3047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4419720" y="3962520"/>
                <a:ext cx="3504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924680" y="2895480"/>
                <a:ext cx="0" cy="1067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419720" y="3276720"/>
                <a:ext cx="0" cy="685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868640" y="3070080"/>
                <a:ext cx="301536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{ if (valore is not empty) the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    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return self.valor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else return 0 }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 flipH="1">
              <a:off x="3048120" y="3657600"/>
              <a:ext cx="1371600" cy="5335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ssociazion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240" y="1066320"/>
            <a:ext cx="85345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 classi, in genere binar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lazio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ra le istanze di tali clas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 ruoli, dipende dall’uso del class 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2362320" y="2895480"/>
            <a:ext cx="6476760" cy="2505240"/>
            <a:chOff x="2362320" y="2895480"/>
            <a:chExt cx="6476760" cy="2505240"/>
          </a:xfrm>
        </p:grpSpPr>
        <p:grpSp>
          <p:nvGrpSpPr>
            <p:cNvPr id="156" name=""/>
            <p:cNvGrpSpPr/>
            <p:nvPr/>
          </p:nvGrpSpPr>
          <p:grpSpPr>
            <a:xfrm>
              <a:off x="2362320" y="4943520"/>
              <a:ext cx="2209680" cy="457200"/>
              <a:chOff x="2362320" y="4943520"/>
              <a:chExt cx="2209680" cy="457200"/>
            </a:xfrm>
          </p:grpSpPr>
          <p:sp>
            <p:nvSpPr>
              <p:cNvPr id="157" name=""/>
              <p:cNvSpPr/>
              <p:nvPr/>
            </p:nvSpPr>
            <p:spPr>
              <a:xfrm>
                <a:off x="2362320" y="4943520"/>
                <a:ext cx="220968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3085560" y="5016600"/>
                <a:ext cx="762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Cart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" name=""/>
            <p:cNvGrpSpPr/>
            <p:nvPr/>
          </p:nvGrpSpPr>
          <p:grpSpPr>
            <a:xfrm>
              <a:off x="2362320" y="2895480"/>
              <a:ext cx="2209680" cy="457200"/>
              <a:chOff x="2362320" y="2895480"/>
              <a:chExt cx="220968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2362320" y="2895480"/>
                <a:ext cx="220968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3084840" y="2968560"/>
                <a:ext cx="788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m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2" name=""/>
            <p:cNvGrpSpPr/>
            <p:nvPr/>
          </p:nvGrpSpPr>
          <p:grpSpPr>
            <a:xfrm>
              <a:off x="7315200" y="4943520"/>
              <a:ext cx="1523880" cy="457200"/>
              <a:chOff x="7315200" y="4943520"/>
              <a:chExt cx="1523880" cy="457200"/>
            </a:xfrm>
          </p:grpSpPr>
          <p:sp>
            <p:nvSpPr>
              <p:cNvPr id="163" name=""/>
              <p:cNvSpPr/>
              <p:nvPr/>
            </p:nvSpPr>
            <p:spPr>
              <a:xfrm>
                <a:off x="7315200" y="4943520"/>
                <a:ext cx="152388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7643880" y="5016600"/>
                <a:ext cx="866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Mazz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5" name=""/>
          <p:cNvGrpSpPr/>
          <p:nvPr/>
        </p:nvGrpSpPr>
        <p:grpSpPr>
          <a:xfrm>
            <a:off x="5872680" y="3876840"/>
            <a:ext cx="858960" cy="990360"/>
            <a:chOff x="5872680" y="3876840"/>
            <a:chExt cx="858960" cy="990360"/>
          </a:xfrm>
        </p:grpSpPr>
        <p:sp>
          <p:nvSpPr>
            <p:cNvPr id="166" name=""/>
            <p:cNvSpPr/>
            <p:nvPr/>
          </p:nvSpPr>
          <p:spPr>
            <a:xfrm>
              <a:off x="5872680" y="3876840"/>
              <a:ext cx="858960" cy="459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o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324480" y="4334040"/>
              <a:ext cx="0" cy="5331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4572000" y="4791240"/>
            <a:ext cx="3581280" cy="838800"/>
            <a:chOff x="4572000" y="4791240"/>
            <a:chExt cx="3581280" cy="838800"/>
          </a:xfrm>
        </p:grpSpPr>
        <p:sp>
          <p:nvSpPr>
            <p:cNvPr id="169" name=""/>
            <p:cNvSpPr/>
            <p:nvPr/>
          </p:nvSpPr>
          <p:spPr>
            <a:xfrm>
              <a:off x="4572000" y="5248440"/>
              <a:ext cx="2743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775480" y="4791240"/>
              <a:ext cx="114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ontie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008840" y="5216400"/>
              <a:ext cx="114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648320" y="5292720"/>
              <a:ext cx="114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.5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5334120" y="5400720"/>
            <a:ext cx="1795320" cy="688320"/>
            <a:chOff x="5334120" y="5400720"/>
            <a:chExt cx="1795320" cy="688320"/>
          </a:xfrm>
        </p:grpSpPr>
        <p:sp>
          <p:nvSpPr>
            <p:cNvPr id="174" name=""/>
            <p:cNvSpPr/>
            <p:nvPr/>
          </p:nvSpPr>
          <p:spPr>
            <a:xfrm>
              <a:off x="5487120" y="5629320"/>
              <a:ext cx="1642320" cy="459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olteplicit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>
              <a:off x="6476400" y="5400720"/>
              <a:ext cx="609480" cy="2286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334120" y="5477040"/>
              <a:ext cx="533160" cy="1522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1219320" y="3429000"/>
            <a:ext cx="1982520" cy="1456200"/>
            <a:chOff x="1219320" y="3429000"/>
            <a:chExt cx="1982520" cy="1456200"/>
          </a:xfrm>
        </p:grpSpPr>
        <p:sp>
          <p:nvSpPr>
            <p:cNvPr id="178" name=""/>
            <p:cNvSpPr/>
            <p:nvPr/>
          </p:nvSpPr>
          <p:spPr>
            <a:xfrm>
              <a:off x="2057400" y="4486320"/>
              <a:ext cx="114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haTip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219320" y="3429000"/>
              <a:ext cx="1677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arteDelTip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3048120" y="3352320"/>
            <a:ext cx="1220760" cy="1590840"/>
            <a:chOff x="3048120" y="3352320"/>
            <a:chExt cx="1220760" cy="1590840"/>
          </a:xfrm>
        </p:grpSpPr>
        <p:sp>
          <p:nvSpPr>
            <p:cNvPr id="181" name=""/>
            <p:cNvSpPr/>
            <p:nvPr/>
          </p:nvSpPr>
          <p:spPr>
            <a:xfrm flipV="1">
              <a:off x="3048120" y="3352320"/>
              <a:ext cx="0" cy="1590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124080" y="3962520"/>
              <a:ext cx="1144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ip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124080" y="4562640"/>
              <a:ext cx="1144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..*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124080" y="3505320"/>
              <a:ext cx="1144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233640" y="3429000"/>
            <a:ext cx="1823760" cy="1295280"/>
            <a:chOff x="233640" y="3429000"/>
            <a:chExt cx="1823760" cy="1295280"/>
          </a:xfrm>
        </p:grpSpPr>
        <p:sp>
          <p:nvSpPr>
            <p:cNvPr id="186" name=""/>
            <p:cNvSpPr/>
            <p:nvPr/>
          </p:nvSpPr>
          <p:spPr>
            <a:xfrm>
              <a:off x="233640" y="3429000"/>
              <a:ext cx="884880" cy="1191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omi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ei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uol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990720" y="4495680"/>
              <a:ext cx="1066680" cy="2286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838080" y="3809520"/>
              <a:ext cx="838440" cy="2286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22T02:45:13Z</dcterms:created>
  <dc:creator>gr</dc:creator>
  <dc:description/>
  <dc:language>en-US</dc:language>
  <cp:lastModifiedBy>jj jj</cp:lastModifiedBy>
  <dcterms:modified xsi:type="dcterms:W3CDTF">2004-01-29T09:31:39Z</dcterms:modified>
  <cp:revision>424</cp:revision>
  <dc:subject/>
  <dc:title>No Slide Title</dc:title>
</cp:coreProperties>
</file>